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Breanne Kaiser" initials="B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8-11-30T21:08:32.005000000" idx="1">
    <p:pos x="896" y="1003"/>
    <p:text>added bullet poin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5CE537-5488-4608-A060-B9F21BEE78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E6C2E0-8D48-4A78-8365-D10CE1FB0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1BB-4991-42D7-9804-78F819B2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201-F0E3-4859-922C-D5A9EE11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7FF-7285-4DC2-8110-0F4CC496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CD4-5538-48CD-B320-57705762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C463-51C4-441A-BC8C-329C537F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68C2-C1AE-4214-AAC1-DE18EBCA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B3B0-66F2-4F65-A45E-54795893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265B-CB3C-492C-B1FD-D8A579D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5DB4-31F4-411C-9313-1CEB8B70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05FE-28E4-4DA3-A77F-701F25CC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CF27-1C2D-448B-9B6C-656892B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240-964C-495A-A8FF-47C0486A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40CF-F0BE-4178-A361-C7CD51DF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44E8-7A08-473D-B23C-C8A82F31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FE8-DEB9-4F92-A438-07408BC0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532A-FF77-4A61-9BE5-DFFD62B6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8827-E91E-485C-ACBF-94CFEB0B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4AD-4782-41CA-9795-76D09C3C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569-26C0-4CF0-B50E-14B50E9D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BC8-993E-4FA9-B289-F9F61FD1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EFF-97CE-4854-B375-960AC336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472-5878-4A07-993F-918FA18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2E7-2524-44FB-95D3-F6367627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BC3-51FB-4CB6-A031-ED134DE5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3B79-F3CA-4EFA-A96B-0C3D18F49E22}" type="slidenum">
              <a:rPr b="0" lang="en-GB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8301-42EB-4668-9D3B-1393FBFCBF4E}" type="slidenum">
              <a:rPr b="0" lang="en-GB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Formation des points de contact sur la protection contre l’exploitation et les abus sexue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7720" y="41148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Module 6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Coup de projecteur sur la réponse : Présentation générale des systèmes d’établissement de rapports, des investigations et des procédures disciplinaire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457200" y="655308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ule 6:  Coup de projecteur sur l'établissement de rapports, les investigations et les procédures disciplin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2463-9861-44D2-9225-FADB05DBBAA4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822cd"/>
                </a:solidFill>
                <a:latin typeface="Lucida Grande"/>
              </a:rPr>
              <a:t>Brève introduction aux investigation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Lucida Grande"/>
              </a:rPr>
              <a:t>Le point de contact ne doit pas enquêter !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La décision concernant l’ouverture éventuelle d’une enquête officielle et la manière dont celle-ci sera menée repose sur la section appropriée de l’organisation. La section d’investigation peut 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Demander au chef de bureau et/ou à quelqu’un sur le terrain de faire une enquêt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Envoyer une équipe d’investiga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Décider de ne pas prendre de mesures supplémentair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Certaines agences au sein des Nations Unies sont dotées de leurs propres bureaux pour conduire des enquêtes 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UNHCR:  Inspecteur généra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Secrétariat de l’ONU : BSCI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BGRH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PNUD:  BAI (Bureau de l’audit et des investigations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UNICEF:  BAI (Bureau de l’audit interne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1219320" y="6095880"/>
            <a:ext cx="716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479B-6ACF-4EA4-8720-B9F6B4472D1A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822cd"/>
                </a:solidFill>
                <a:latin typeface="Lucida Grande"/>
              </a:rPr>
              <a:t>Brève introduction aux procédures disciplinaire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’autorité disciplinaire est souvent détenue par les ressources humaines ou l’équipe de direction, la plupart du temps en consultation avec le bureau juridiq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S’agissant du Secrétariat de l’ONU, les actions disciplinaires sont à la discrétion du SG, sur la base des recommandations du BGR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e SG n’a aucune autorité sur le personnel en uniforme; discrétion des États memb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371600" y="63244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2883-CB3B-4AD7-8415-8D79E770A4DD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822cd"/>
                </a:solidFill>
                <a:latin typeface="Lucida Grande"/>
              </a:rPr>
              <a:t>Mécanismes d’établissement de rapport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Lucida Grande"/>
              </a:rPr>
              <a:t>La SGB exige que toutes les allégations soient signalées par le biais des « mécanismes établis d’établissement des rapports »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Lucida Grande"/>
              </a:rPr>
              <a:t>Non convenablement établis dans la plupart des contextes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Lucida Grande"/>
              </a:rPr>
              <a:t>Chaque agence est responsable de son propre système d’établissement de rapports </a:t>
            </a:r>
            <a:r>
              <a:rPr b="0" lang="fr-FR" sz="1900" spc="-1" strike="noStrike">
                <a:solidFill>
                  <a:srgbClr val="f06157"/>
                </a:solidFill>
                <a:latin typeface="Lucida Grande"/>
              </a:rPr>
              <a:t>internes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Lucida Grande"/>
              </a:rPr>
              <a:t>Les points de contact doivent contacter le Siège pour déterminer si les systèmes internes sont établis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Lucida Grande"/>
              </a:rPr>
              <a:t>Les points de contact peuvent vouloir travailler avec le Siège pour proposer un système approprié d’établissement de rapports internes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Lucida Grande"/>
              </a:rPr>
              <a:t>Les agences doivent travailler ensemble et avec les communautés locales pour établir des mécanismes d’établissement de rapports  </a:t>
            </a:r>
            <a:r>
              <a:rPr b="0" lang="fr-FR" sz="1900" spc="-1" strike="noStrike">
                <a:solidFill>
                  <a:srgbClr val="f06157"/>
                </a:solidFill>
                <a:latin typeface="Lucida Grande"/>
              </a:rPr>
              <a:t>externes, </a:t>
            </a:r>
            <a:r>
              <a:rPr b="0" lang="fr-FR" sz="1900" spc="-1" strike="noStrike">
                <a:solidFill>
                  <a:srgbClr val="000000"/>
                </a:solidFill>
                <a:latin typeface="Lucida Grande"/>
              </a:rPr>
              <a:t>afin que les communautés sachent où et comment faire leur rapport 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Lucida Grande"/>
              </a:rPr>
              <a:t>Les points de contact doivent travailler par l’intermédiaire du réseau à l’échelon du pays (REP) pour mettre en place des mécanismes d’établissement de rapports externes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A qui faire rappor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Options potentielles 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Points de contac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Chefs de bureau / Représentants de pay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Directeur des ressources humain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Point de contact du Sièg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Groupe d’investigation propre aux agences/BSCI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EDD ou GD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Autres canaux de l’agence/bureaux approprié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Fournir une gamme d’op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1371600" y="6248520"/>
            <a:ext cx="7162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8368-4E3A-4183-970D-464AE6F91FF5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Principes généraux pour transmettre des allégation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Limiter le nombre de personnes informées de la plainte en vue d’assurer la confidentialité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Dans tous les cas, la hiérarchie normale d’établissement des rapports d’un bureau ne doit pas s’appliqu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Les plaintes doivent parvenir au service des ressources humaines ou dans les unités pertinentes du Sièg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Sur le terrain, il est possible de transmettre les plaintes au chef du bureau/représentant ou de faire rapport directement aux ressources humaines ou autre canal approprié de l’agence au Sièg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1371600" y="63244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A0A2-CDD5-4EEB-A114-DE5C5257A701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Le rôle de transmetteur</a:t>
            </a:r>
            <a:br>
              <a:rPr sz="4000"/>
            </a:b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du point de contact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e point de contact transmet les allégations au bureau approprié du Siè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e point de contact n’évalue pas la véracité de l’allégation avant de la transmett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Tout le personnel a des obligations d’établissement de rapports et doit être ouvert à la réception et à l’établissement des rapports sur les plaintes – ils n’ont pas à passer par le point de conta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1371600" y="617220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89A8-59E5-435A-947B-1990E93E7A62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Etablissement de rapports interrorganisation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Les points de contact ou les autres membres du personnel peuvent recevoir des allégations au sujet d’un membre d’une autre agen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e principe est la confidentialité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e but est que l’allégation parvienne à la section appropriée de l’organisation pertinente aussi rapidement que possi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9C25-7372-4585-BD33-031A9EA7E7FA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Faire rapport aux autorités locale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Lorsque l’acte présumé constitue un crime, le point de contact doit voir avec le plaignant (la victime présumée) s’il a besoin d’aide pour faire rapport aux autorité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La décision de faire rapport aux autorités est du ressort unique du plaignant (victime présumée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Le point de contact n’est pas l’avocat ni l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défenseur !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Aider la victime présumée à accéder aux autorités locales n’est pas la même chose que de référer officiellement !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6F63-81BB-4BC6-9E53-4B8FB2FF0E53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Sécuriser l’inform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L’ensemble de l’information doit être gardée en sûreté et rendue uniquement accessible aux points de conta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Les points de contact doivent garder des statistiques régulières sur les rapports et leur suiv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1295280" y="6248520"/>
            <a:ext cx="7162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Coup de projecteur sur l'établissement de rapports, les investigations et les procédures discipli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44DD-0DEF-4443-A5CB-28DDF1331A5F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822cd"/>
                </a:solidFill>
                <a:latin typeface="Lucida Grande"/>
              </a:rPr>
              <a:t>Formalisation d’un système d’établissement de rapports et de transmission des plainte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Considérez à qui et comment vous recevez et transmettrez les plaint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Travaillez avec le REP et les communautés pour mettre en place des mécanismes de plaintes impliquant la communauté loca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Donnez la priorité à la confidentialité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Discutez des recommandations avec le chef du bureau ou le point de contact du Siè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Rédigez un mémo 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4:31:20Z</dcterms:created>
  <dc:creator>Jeanne Ward</dc:creator>
  <dc:description/>
  <dc:language>en-US</dc:language>
  <cp:lastModifiedBy>Philippe Brunet</cp:lastModifiedBy>
  <dcterms:modified xsi:type="dcterms:W3CDTF">2009-05-05T20:10:06Z</dcterms:modified>
  <cp:revision>53</cp:revision>
  <dc:subject/>
  <dc:title>Focal Points Training on Protection from Sexual Exploitation and Abuse</dc:title>
</cp:coreProperties>
</file>