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9C48-4825-4D1A-9475-52253D871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C0D7-9074-423F-8BC5-CC005F55D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6A1F-1935-4D90-B4EC-08E95ED49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E137-FDEA-4507-A0BD-953907C8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1EE-CD4D-4B65-82D8-7212B7A6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686-026C-4E2D-9283-C5DF8B7F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593-6086-4560-964B-F574BC54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9CD-9902-4A8E-A65A-C1F526AC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614-67C4-4DF7-8A13-F8944994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5084-4724-4378-B944-04582C26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B4F2-5992-4154-997B-12CD2085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E133-DB7E-4C84-AB70-D592EF51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F61F-0085-4308-861F-4DB737F5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546F-4B15-4CB8-9CDF-EBF77EC1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D880-D4F7-404D-82AD-3E27C8BE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9F5B-99D7-464F-809F-2DC4FB19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1EB-4502-41C4-BAFC-6EAD4CB0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B236-250D-48DC-9D2E-3300022C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9295-E7C5-4306-802E-22C31D6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1F83-A59B-4206-A834-53862FB5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10E1-3F9E-423B-A828-9FD0E20F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1A8F-7CE8-4709-9DBA-E458C314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2EA-8875-4C88-AB5F-6671C84C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587-9D99-46CC-8D73-8EB0A8BD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D9E-538C-48D6-80DD-A62B583D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49D-0AD8-4027-B9F8-1049AF3E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5CF-BCD3-46AF-9A4E-E2FD7AB3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968-A7BE-4DF0-9E35-50ADA3E8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A30-8F43-4D3A-AE5D-7399C0B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5ACC-1021-48AB-8338-57AD17A4A8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responsabilités du point de contact et du réseau 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5258-3ACC-4064-B3CD-89B7358FEC2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237B-2B8C-4446-9A15-01A1196FE5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responsabilités du point de contact et du réseau 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290B-4FFE-4A83-845D-77A51ECD331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Formation des points de contact sur la protection contre l’exploitation et les abus sexue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Module 5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Responsabilités du point de contact et du réseau dans le cadre des quatre pili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45A2-BC9A-4C64-BE25-A977DD78FA4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822cd"/>
                </a:solidFill>
                <a:latin typeface="Lucida Grande"/>
              </a:rPr>
              <a:t>Engagement auprès des populations locales et appui à celles-ci : REP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Lucida Grande"/>
              </a:rPr>
              <a:t>Établit des mécanismes de plaintes communs dans chaque communauté où l’ONU, les ONG et les OIG travaillen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Lucida Grande"/>
              </a:rPr>
              <a:t>Faciliter la sensibilisation des communautés locales sur leurs droits, les normes de conduite et le dépôt des plainte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0A53-29CF-4667-A115-6FAD81F0E1E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Prévention: REP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Assurer une sensibilisation nationale du personnel et personnel apparenté (que ce soit collectivement ou par agence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Identifier les facteurs de risqu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Partager les informations sur les facteurs de risques et les zones de préoccup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S’occuper de l’instauration et de la mise en œuvre des bonnes pratiques de recrutem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7537-EDC7-4AD5-80A1-F3B29D9240F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Réponse:  REP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Mettre en place des mécanismes pour recevoir les plaintes impliquant des entités autres/multiples/inconn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Harmoniser les procédures d’établissement de rapport pour le personn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Traiter les allégations et rumeurs « dans l’air »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Assurer la confidentialité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Mettre en place et coordonner le mécanismes d’assistance aux victim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5065-BFC5-4BB3-AB27-9CC28FAF583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Gestion et coordination:  REP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Organiser des réunions réguliè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Partager les responsabilités de coordin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Évaluer les carences au niveau de la protection et élaborer des plans d’a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Coordonner les form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Partager les meilleures pratiques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Appuyer l’adhésion aux mécanismes de surveilla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Faire rapport annuellement au Groupe de travail CEAH/CEPS et aux CR/C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155-2710-43B8-A775-AF2419DD0C13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CDBA-8F43-49FA-BA3C-1098DC3BE61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822cd"/>
                </a:solidFill>
                <a:latin typeface="Lucida Grande"/>
              </a:rPr>
              <a:t>De quoi les points de contacts et le réseau ne sont-ils PAS responsable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Discuter des détails concernant un plaignant individu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Enquêter et suivre les plaintes individuel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Punir le membre du personnel convaincu d’avoir commis des actes d’exploitation et d’abus sexue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B979-16A8-44A5-B2D6-477CF47D5BA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07F5-B394-45EE-882F-88370D9E12E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Et surtout…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Le réseau doit être proactif et créatif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Seules les normes ne sont pas négociables !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8B7A-9BC1-4EE5-9544-5D32C5AF8163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E7D5-A23C-4C42-9F16-DE44778DEF2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822cd"/>
                </a:solidFill>
                <a:latin typeface="Lucida Grande"/>
              </a:rPr>
              <a:t>Conclusions pour les points de contact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Connaissez les règl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Parlez-en aux ge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Signalez les viola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Participez aux réseaux à l’échelon du pay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Travaillez avec les partenai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Parlez à vos responsabl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Travaillez en liaison avec les points de contact du Sièg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Soyez vigi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Soyez un modè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215"/>
                </a:solidFill>
                <a:latin typeface="Lucida Grande"/>
              </a:rPr>
              <a:t>Soyez un champ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731A-335B-494E-9188-DF4D546AB23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CD30-1709-4E43-9C23-FA8F3F5546B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822cd"/>
                </a:solidFill>
                <a:latin typeface="Lucida Grande"/>
              </a:rPr>
              <a:t>Outils pour aider les points de contact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Équipes Déontologie et discipline (quand il y a une mission de maintien de la paix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Point de contact du Siè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Groupe de travail CEAH/CEPS (seatf@un.org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Réseau à l’échelon du pay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Centre documentaire sur les outils (www.un.org/psea/taskforce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CC1F-2DAC-4F92-8C28-DC7FB151F75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4100-BAA5-4B92-A371-DB6E4463AF0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Responsabilité du point de contact dans le cadre des quatre pilier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Lucida Grande"/>
              </a:rPr>
              <a:t>Engagement auprès de la population locale et appui à celle-ci;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Lucida Grande"/>
              </a:rPr>
              <a:t>Prévention;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Lucida Grande"/>
              </a:rPr>
              <a:t>Réponse;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Lucida Grande"/>
              </a:rPr>
              <a:t>Gestion et coordination.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6FD9-821F-4257-B543-620BB073E39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822cd"/>
                </a:solidFill>
                <a:latin typeface="Lucida Grande"/>
              </a:rPr>
              <a:t>Engagement auprès de la population locale et appui à celle-ci : PC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Lucida Grande"/>
              </a:rPr>
              <a:t>Faciliter, en coordination avec le Réseau national sur la PEAS, la sensibilisation des communautés locales sur leurs droits, sur le fait que l’assistance qui leur est donnée n’est jamais conditionnée à des faveurs sexuelles et sur les options pour signaler des incidents d’EAS.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B2D3-2977-4C6C-997F-08E10CB30E4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Prévention: PC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S’identifier dans toute l’ag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Appuyer la signature du Code de conduite par le personn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Mener des activités de formation et de sensibilisation à l’intention du personn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Faire des recommandations à l’équipe de direction sur la manière d’améliorer les mesures de lutte contre l’E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Aider à mettre en place des politiques et procé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B1EB-4097-45B2-A618-897EE080AF4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Réponse: PC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Assurer la mise en place de mécanismes pour que le personnel puisse signaler les cas d’EA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Recevoir les plainte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Politique de la porte ouver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Assurer la confidentialité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Orienter les plaintes/les plaignan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DDFB-195D-49BC-9757-BB3BC9AFA4A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Gestion et coordination: PC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Aider le responsable du bureau/RR à s’acquitter de ses responsabilité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Appuyer l’inclusion des normes de la CSG dans les accords contractuel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S’occuper de la désignation et de la formation des points de contact sur le terrai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Coordonner l’adhésion de l’organisation aux mécanismes de surveillance/respect des disposi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Assurer les responsabilités du PC dans la description de poste/mission et/ou plans d’évaluation des résulta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Suivre toutes les activités liées à la PEA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Maintenir la direction au courant 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FAC5-A7B2-47ED-9678-E321E19DCE8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38DB-F59C-468A-9A56-C6081D8EAA5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822cd"/>
                </a:solidFill>
                <a:latin typeface="Lucida Grande"/>
              </a:rPr>
              <a:t>Pour toutes ces responsabilités, il est essentiel de travailler avec l’équipe de direction !</a:t>
            </a:r>
            <a:endParaRPr b="1" lang="en-US" sz="2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’équipe de direction est investie de la principale responsabilité en vertu de la CS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es points de contact aident la direction à s’acquitter de ses responsabilité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es points de contact doivent aider la direction à identifier les besoins en cours pour faire face à l’E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Les points de contact doivent rencontrer régulièrement l’équipe de dir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6A45-2AFE-43E9-A43C-CC40355B5EF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3F8F-3054-4BA3-AF0C-686ED68F151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Participation au réseau à l’échelon du pays (REP)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Le réseau du point de conta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Est composé des représentants de toutes les agences de l’ONU présentes dans le pays, de toute mission de maintien de la pays, du Mouvement de la Croix rouge/Croissant rouge et des principales O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Fonctionne sous les auspices du Coordonnateur résid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42F4-4CFE-4ABC-82EE-8A31C17F6F7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abilités du point de contact et du résea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1485-4703-47E0-9E24-8CAF83E00E2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Objectif du réseau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Le réseau est l’organe principal de coordination et de contrôle sur la protection contre l’exploitation et les abus sexuels commis par le personnel de l’ONU et personnel apparenté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215"/>
                </a:solidFill>
                <a:latin typeface="Lucida Grande"/>
              </a:rPr>
              <a:t>Le travail ne peut être réalisé isolément !</a:t>
            </a: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Le réseau assure que les messages sont communs, que l’action est collective et que la réponse est concerté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8:56:55Z</dcterms:created>
  <dc:creator>pshifman</dc:creator>
  <dc:description/>
  <dc:language>en-US</dc:language>
  <cp:lastModifiedBy>jaqueline.carleson</cp:lastModifiedBy>
  <dcterms:modified xsi:type="dcterms:W3CDTF">2009-09-16T14:17:54Z</dcterms:modified>
  <cp:revision>47</cp:revision>
  <dc:subject/>
  <dc:title>Focal Point terms of reference:</dc:title>
</cp:coreProperties>
</file>