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move the slid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273C6-6865-4F74-80DB-1BF640466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A279D-0688-4E41-89C2-66905A0D0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19995-64FA-4B4D-B011-2784DC6F6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26AE-72F7-4D24-B04B-A8A0D37A9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CF9E-28FD-4B41-A8F2-6360EFC8A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AEBF-DE44-46F4-9750-382F9FBDE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C93D-137D-41D0-A82F-D67A8A0D6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D6E09-CEA5-49D7-A98C-C694C4B00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972D1-9F59-4788-AF45-94140F347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6AA8A-3551-481A-B753-63578DCE5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C4148-738C-409F-8E61-4CC160165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B2525-2552-4336-B781-CA5041535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40DF8-D235-4F62-A027-49B15FB61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5BB7D-CF4C-4826-AB6C-41B09E98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F941-E6EB-40B3-89AA-C318394B6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FB8AA-3F9C-4CFE-8CF3-DC045138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515D5-3587-4EA5-8E9E-C6DEDB4B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77EB7-562B-4D18-B645-06411D310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64626-4B39-4CC7-872D-D29E79B13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E3F00-4F30-4489-8DB1-A11DA8329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7034-97F9-43DB-B089-16E18C376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088A-BB7E-4EDC-8DC5-3B23A82BF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419F-BB36-4F04-B94D-000918570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7696-9D63-4E76-AE73-D168B069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8A3E-FD41-4FD8-9108-A9233CDF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BDD4-D783-4BC8-856D-BC067D5D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C99B-1D6E-46A0-B870-CE14691A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fffff"/>
              </a:gs>
              <a:gs pos="100000">
                <a:srgbClr val="b3d1f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fffff"/>
              </a:gs>
              <a:gs pos="100000">
                <a:srgbClr val="b3d1f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ule 4:  Cadre d'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DFD4F-8679-4FAD-8666-2F18AB0E4D42}" type="slidenum">
              <a:rPr b="0" lang="en-US" sz="1400" spc="-1" strike="noStrike">
                <a:solidFill>
                  <a:srgbClr val="1822c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0" y="0"/>
            <a:ext cx="9144000" cy="1752480"/>
            <a:chOff x="0" y="0"/>
            <a:chExt cx="9144000" cy="1752480"/>
          </a:xfrm>
        </p:grpSpPr>
        <p:grpSp>
          <p:nvGrpSpPr>
            <p:cNvPr id="6" name="Group 8"/>
            <p:cNvGrpSpPr/>
            <p:nvPr/>
          </p:nvGrpSpPr>
          <p:grpSpPr>
            <a:xfrm>
              <a:off x="6480" y="1219320"/>
              <a:ext cx="9137520" cy="380160"/>
              <a:chOff x="6480" y="1219320"/>
              <a:chExt cx="9137520" cy="380160"/>
            </a:xfrm>
          </p:grpSpPr>
          <p:sp>
            <p:nvSpPr>
              <p:cNvPr id="7" name="Rectangle 9"/>
              <p:cNvSpPr/>
              <p:nvPr/>
            </p:nvSpPr>
            <p:spPr>
              <a:xfrm flipV="1">
                <a:off x="6480" y="1241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6480" y="1334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9bee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6480" y="1219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78d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 flipV="1">
                <a:off x="6480" y="1554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9bee7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6480" y="1327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" name="Rectangle 14"/>
            <p:cNvSpPr/>
            <p:nvPr/>
          </p:nvSpPr>
          <p:spPr>
            <a:xfrm>
              <a:off x="0" y="0"/>
              <a:ext cx="9144000" cy="1219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40" y="1600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4680" y="1184400"/>
              <a:ext cx="9139320" cy="74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428840" indent="-22860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1771560" indent="-22860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5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4" name="Rectangle 6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7"/>
            <p:cNvGrpSpPr/>
            <p:nvPr/>
          </p:nvGrpSpPr>
          <p:grpSpPr>
            <a:xfrm>
              <a:off x="0" y="3486240"/>
              <a:ext cx="9137520" cy="375480"/>
              <a:chOff x="0" y="3486240"/>
              <a:chExt cx="9137520" cy="375480"/>
            </a:xfrm>
          </p:grpSpPr>
          <p:sp>
            <p:nvSpPr>
              <p:cNvPr id="56" name="Rectangle 8"/>
              <p:cNvSpPr/>
              <p:nvPr/>
            </p:nvSpPr>
            <p:spPr>
              <a:xfrm flipV="1">
                <a:off x="0" y="3507840"/>
                <a:ext cx="9137520" cy="9108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0" y="3600360"/>
                <a:ext cx="9137520" cy="22176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9bee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0" y="3486240"/>
                <a:ext cx="9137520" cy="2268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78d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 flipV="1">
                <a:off x="0" y="3817440"/>
                <a:ext cx="9137520" cy="43560"/>
              </a:xfrm>
              <a:prstGeom prst="rect">
                <a:avLst/>
              </a:prstGeom>
              <a:gradFill rotWithShape="0">
                <a:gsLst>
                  <a:gs pos="0">
                    <a:srgbClr val="a9bee7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3593160"/>
                <a:ext cx="9137520" cy="4356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Rectangle 13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Rectangle 14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428840" indent="-22860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1771560" indent="-22860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ule 4:  Cadre d'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8B1F3-3666-4B85-963E-35AC55F3AD40}" type="slidenum">
              <a:rPr b="0" lang="en-US" sz="1400" spc="-1" strike="noStrike">
                <a:solidFill>
                  <a:srgbClr val="1822c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1822cd"/>
                </a:solidFill>
                <a:latin typeface="Lucida Grande"/>
              </a:rPr>
              <a:t>Formation des points de contact sur la protection contre l’exploitation et les abus sexuels</a:t>
            </a:r>
            <a:endParaRPr b="1" lang="en-US" sz="36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cida Grande"/>
              </a:rPr>
              <a:t>Module 4:  Cadre d’action :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Lucida Grande"/>
              </a:rPr>
              <a:t>LES QUATRE PILIERS : L’ENGAGEMENT DE LA COMMUNAUTE, LA PREVENTION, LA REPONSE, et LA GESTION ET COORDINATION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4"/>
          <p:cNvSpPr/>
          <p:nvPr/>
        </p:nvSpPr>
        <p:spPr>
          <a:xfrm>
            <a:off x="1371600" y="6553080"/>
            <a:ext cx="716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4:  Cadre d'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99770-8EA8-4E68-B046-103F42A67345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822cd"/>
                </a:solidFill>
                <a:latin typeface="Lucida Grande"/>
              </a:rPr>
              <a:t>Qui travaille sur la PEAS dans les agences?</a:t>
            </a:r>
            <a:endParaRPr b="1" lang="en-US" sz="40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Lucida Grande"/>
              </a:rPr>
              <a:t>Ressources humaines/Administration/CDU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Lucida Grande"/>
              </a:rPr>
              <a:t>Opérations ou programmes 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Grande"/>
              </a:rPr>
              <a:t>Groupes d’acteurs (gestion du camp, santé, protection, etc.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Grande"/>
              </a:rPr>
              <a:t>Personnel chargé de la violence sexist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Grande"/>
              </a:rPr>
              <a:t>Équipes de l’égalité des sexe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Grande"/>
              </a:rPr>
              <a:t>Services de la communauté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Grande"/>
              </a:rPr>
              <a:t>Personnel de formatio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Grande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1371600" y="6553080"/>
            <a:ext cx="716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4:  Cadre d'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5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D96AE-B3E8-4E1D-9E73-6F554C5D6873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822cd"/>
                </a:solidFill>
                <a:latin typeface="Lucida Grande"/>
              </a:rPr>
              <a:t>Les quatre piliers du travail en matière de PEAS</a:t>
            </a:r>
            <a:endParaRPr b="1" lang="en-US" sz="40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428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cida Grande"/>
              </a:rPr>
              <a:t>Engagement auprès des populations locales et appui à celles-ci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cida Grande"/>
              </a:rPr>
              <a:t>Préventio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cida Grande"/>
              </a:rPr>
              <a:t>Systèmes de réponse, dont assistance aux victim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cida Grande"/>
              </a:rPr>
              <a:t>Gestion et coordinatio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1371600" y="6553080"/>
            <a:ext cx="716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4:  Cadre d'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7788C-39AE-4F79-BCC4-F5A59599BA2B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1822cd"/>
                </a:solidFill>
                <a:latin typeface="Lucida Grande"/>
              </a:rPr>
              <a:t>Cadre schématique de la PEA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1965240" y="1179360"/>
            <a:ext cx="504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2575080" y="1736640"/>
            <a:ext cx="4221000" cy="398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5"/>
          <p:cNvSpPr/>
          <p:nvPr/>
        </p:nvSpPr>
        <p:spPr>
          <a:xfrm>
            <a:off x="2133720" y="1523880"/>
            <a:ext cx="5029200" cy="2057400"/>
          </a:xfrm>
          <a:prstGeom prst="ellipse">
            <a:avLst/>
          </a:prstGeom>
          <a:solidFill>
            <a:srgbClr val="f061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agement auprès des populations lo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 appui à celles-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6"/>
          <p:cNvSpPr/>
          <p:nvPr/>
        </p:nvSpPr>
        <p:spPr>
          <a:xfrm>
            <a:off x="2438280" y="3048120"/>
            <a:ext cx="2286000" cy="1904760"/>
          </a:xfrm>
          <a:prstGeom prst="ellipse">
            <a:avLst/>
          </a:prstGeom>
          <a:solidFill>
            <a:srgbClr val="acf2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évention 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’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7"/>
          <p:cNvSpPr/>
          <p:nvPr/>
        </p:nvSpPr>
        <p:spPr>
          <a:xfrm>
            <a:off x="4495680" y="3124080"/>
            <a:ext cx="2286000" cy="1905120"/>
          </a:xfrm>
          <a:prstGeom prst="ellipse">
            <a:avLst/>
          </a:prstGeom>
          <a:solidFill>
            <a:srgbClr val="e4dc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éponse 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’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8"/>
          <p:cNvSpPr/>
          <p:nvPr/>
        </p:nvSpPr>
        <p:spPr>
          <a:xfrm>
            <a:off x="2362320" y="5257800"/>
            <a:ext cx="5105160" cy="990720"/>
          </a:xfrm>
          <a:prstGeom prst="ellipse">
            <a:avLst/>
          </a:prstGeom>
          <a:solidFill>
            <a:srgbClr val="e3f5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stion et coord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4"/>
          <p:cNvSpPr/>
          <p:nvPr/>
        </p:nvSpPr>
        <p:spPr>
          <a:xfrm>
            <a:off x="1371600" y="6553080"/>
            <a:ext cx="716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4:  Cadre d'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9006-2A42-4F87-9232-C49FD1D5EFB8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822cd"/>
                </a:solidFill>
                <a:latin typeface="Lucida Grande"/>
              </a:rPr>
              <a:t>Engagement auprès des populations locales et appui à celles-ci</a:t>
            </a:r>
            <a:endParaRPr b="1" lang="en-US" sz="32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Grande"/>
              </a:rPr>
              <a:t>Etablir des mécanismes de plaintes communs dans chaque communauté où l’ONU, les ONG et les OIG travaillent;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Grande"/>
              </a:rPr>
              <a:t>Renseigner la communauté sur ses droits;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Grande"/>
              </a:rPr>
              <a:t>Obtenir l’engagement de la communauté pour surveiller les risques d’EAS;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Grande"/>
              </a:rPr>
              <a:t>Obtenir l’engagement de la communauté en faveur des stratégies de prévention et de réponse;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Grande"/>
              </a:rPr>
              <a:t>Encourager les communautés à signaler les cas d’EAS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4"/>
          <p:cNvSpPr/>
          <p:nvPr/>
        </p:nvSpPr>
        <p:spPr>
          <a:xfrm>
            <a:off x="1371600" y="6553080"/>
            <a:ext cx="716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4:  Cadre d'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5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0D1F1-585A-470F-8DA9-6D1F7AC9D2A9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1822cd"/>
                </a:solidFill>
                <a:latin typeface="Lucida Grande"/>
              </a:rPr>
              <a:t>Prévention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Lucida Grande"/>
              </a:rPr>
              <a:t>Assurer qu’une formation dans le pays pour le personnel et personnel apparenté est en cours (que ce soit collectivement ou par une agence);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39480" indent="-3394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Lucida Grande"/>
              </a:rPr>
              <a:t>Créer des mécanismes pour faire face aux risques d’EAS dans nos programmes;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39480" indent="-3394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Lucida Grande"/>
              </a:rPr>
              <a:t>Élaborer des codes de conduite avec des standards au moins égaux à ceux figurant dans la CSG (par agence; pour l’ONU, la CSG sert déjà les objectifs d’un code de conduite)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1371600" y="6553080"/>
            <a:ext cx="716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4:  Cadre d'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5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038CA-AB33-46E2-874D-4B16B55E796A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1822cd"/>
                </a:solidFill>
                <a:latin typeface="Lucida Grande"/>
              </a:rPr>
              <a:t>Répons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Lucida Grande"/>
              </a:rPr>
              <a:t>Mettre en place des procédures de plaintes pour le personnel et le personnel apparenté;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Lucida Grande"/>
              </a:rPr>
              <a:t>Mettre en place des procédures et des capacités d’investigation;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Lucida Grande"/>
              </a:rPr>
              <a:t>Garantir des actions et des sanctions disciplinaires;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Lucida Grande"/>
              </a:rPr>
              <a:t>Établir et mettre en place un mécanisme d’assistance aux victimes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4"/>
          <p:cNvSpPr/>
          <p:nvPr/>
        </p:nvSpPr>
        <p:spPr>
          <a:xfrm>
            <a:off x="1371600" y="6553080"/>
            <a:ext cx="716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4:  Cadre d'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414E6-E304-40F0-960C-2D2B3AD4ECAD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1822cd"/>
                </a:solidFill>
                <a:latin typeface="Lucida Grande"/>
              </a:rPr>
              <a:t>Gestion et coordination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Lucida Grande"/>
              </a:rPr>
              <a:t>Renforcement du leadership des responsables  au sujet de la PEAS;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Lucida Grande"/>
              </a:rPr>
              <a:t>Traitement des questions de gestion interne (par exemple, mission des points de contact, standards de la CSG en matière d’accords contractuels; gestion des résultats);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Lucida Grande"/>
              </a:rPr>
              <a:t>Mise en place et coordination des réseaux de PEAS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1371600" y="6553080"/>
            <a:ext cx="716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4:  Cadre d'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72C2A-459A-414E-A755-520698A3A980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822cd"/>
                </a:solidFill>
                <a:latin typeface="Lucida Grande"/>
              </a:rPr>
              <a:t>Rôles et responsabilités des responsables au niveau national</a:t>
            </a:r>
            <a:endParaRPr b="1" lang="en-US" sz="40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Grande"/>
              </a:rPr>
              <a:t>L’un des principes fondamentaux de la CSG appelle les responsables à mettre en place et à appuyer des systèmes de prévention de l’EAS;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Grande"/>
              </a:rPr>
              <a:t>Nommer et appuyer les points de contacts;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Grande"/>
              </a:rPr>
              <a:t>Assurer que le personnel reçoit la CSG; sensibiliser le personnel;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Grande"/>
              </a:rPr>
              <a:t>Assurer que tous les accords de coopération incluent le code de conduite;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Grande"/>
              </a:rPr>
              <a:t>Assurer que les procédures de plaintes et d’établissement de rapports et que les processus de vérification sont en place;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Grande"/>
              </a:rPr>
              <a:t>Assurer que les responsables sont familiers avec les systèmes d’investigation et disciplinaires existants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4"/>
          <p:cNvSpPr/>
          <p:nvPr/>
        </p:nvSpPr>
        <p:spPr>
          <a:xfrm>
            <a:off x="1371600" y="6553080"/>
            <a:ext cx="716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4:  Cadre d'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16C65-29EB-4071-9E84-29CDD18DD992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1822cd"/>
                </a:solidFill>
                <a:latin typeface="Lucida Grande"/>
              </a:rPr>
              <a:t>EAS – Normes opérationnelles minimales </a:t>
            </a:r>
            <a:r>
              <a:rPr b="1" lang="fr-FR" sz="4000" spc="-1" strike="noStrike">
                <a:solidFill>
                  <a:srgbClr val="1822cd"/>
                </a:solidFill>
                <a:latin typeface="Lucida Grande"/>
              </a:rPr>
              <a:t>: MOS-EAS</a:t>
            </a:r>
            <a:endParaRPr b="1" lang="en-US" sz="40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cida Grande"/>
              </a:rPr>
              <a:t>Établissement de rapports nationaux similaires à ceux des MOS pour la sécurité (en cours d’examen) 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spcBef>
                <a:spcPts val="64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cida Grande"/>
              </a:rPr>
              <a:t>Chaque agence fait rapport aux RSSG/CR/CH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spcBef>
                <a:spcPts val="64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cida Grande"/>
              </a:rPr>
              <a:t>Rapport annuel fait à l’Assemblée général dans le cadre du Rapport sur les dispositions spéciales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spcBef>
                <a:spcPts val="64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cida Grande"/>
              </a:rPr>
              <a:t>Basées sur les 4 piliers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spcBef>
                <a:spcPts val="64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cida Grande"/>
              </a:rPr>
              <a:t>Nécessité d’avoir des indicateurs mesurables clairs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spcBef>
                <a:spcPts val="64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cida Grande"/>
              </a:rPr>
              <a:t>Le Groupe de travail des CEAH/CEPS recherchera une approbation à l’échelle du système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10:18:47Z</dcterms:created>
  <dc:creator>Jeanne Ward</dc:creator>
  <dc:description/>
  <dc:language>en-US</dc:language>
  <cp:lastModifiedBy>Philippe Brunet</cp:lastModifiedBy>
  <dcterms:modified xsi:type="dcterms:W3CDTF">2009-05-05T19:51:30Z</dcterms:modified>
  <cp:revision>22</cp:revision>
  <dc:subject/>
  <dc:title>Focal Points Training on Protection From Sexual Exploitation and Abuse</dc:title>
</cp:coreProperties>
</file>