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171-3953-4435-87C4-7E6D1A8E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2C3-910E-4DA1-A379-3150F22F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D2D-6D22-4575-BC48-63A147CF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6CE-423D-48EF-B0B1-78DF8820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E420-27FD-4CE5-9A97-C12C3EB4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3EDC-66EC-4B5B-8103-3906D253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C91B-0442-4292-99C4-2E76682C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D109-1DC6-4CCE-AD6C-D81122F3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10E9-301F-4788-A462-0D87033F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65C6-9098-4C5F-A0D6-B46ECC23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D3C2-D0DB-4E79-951D-8FD6FD9D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FD29-14F2-437D-8E46-3EDE1391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1C52-E785-4472-9BFE-70B7CD8A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9A23-8EB8-4FCB-8B1C-A6CF7F79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C19D-3691-4F20-9548-E8045CDF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C637-C2F1-4AEB-9406-7228D0DB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7172-A2DA-490C-81F9-083DAF80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0B5-7383-491D-8D27-777632DD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DC8A-B0DE-4A28-ABAB-F028DE1D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627F-0854-4F9F-AAFB-F13CDABA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225F-4B49-4DFB-AE39-49664B11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970-9AC7-423E-9A17-39E5B282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0A8-82E4-4B04-AABD-40FD4F2B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787-7E32-4C71-9686-8E17F1D8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9:  Les fonctions de messagers du point de contact et du 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150C-6235-41BB-9685-F8CA7D877627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Group 8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Rectangle 9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14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Rectangle 6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486240"/>
              <a:ext cx="9137520" cy="375480"/>
              <a:chOff x="0" y="3486240"/>
              <a:chExt cx="9137520" cy="375480"/>
            </a:xfrm>
          </p:grpSpPr>
          <p:sp>
            <p:nvSpPr>
              <p:cNvPr id="56" name="Rectangle 8"/>
              <p:cNvSpPr/>
              <p:nvPr/>
            </p:nvSpPr>
            <p:spPr>
              <a:xfrm flipV="1">
                <a:off x="0" y="3507840"/>
                <a:ext cx="9137520" cy="9108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600360"/>
                <a:ext cx="9137520" cy="22176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486240"/>
                <a:ext cx="9137520" cy="2268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 flipV="1">
                <a:off x="0" y="381744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359316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Rectangle 13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14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9:  Les fonctions de messagers du point de contact et du 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8752-8B0A-4ED9-98C7-8BA7585070AE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SN" sz="4400" spc="-1" strike="noStrike">
                <a:solidFill>
                  <a:srgbClr val="1822cd"/>
                </a:solidFill>
                <a:latin typeface="Lucida Grande"/>
              </a:rPr>
              <a:t>Formation des points de contact sur la protection contre l’exploitation et les abus sexuel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3200" spc="-1" strike="noStrike">
                <a:solidFill>
                  <a:srgbClr val="000000"/>
                </a:solidFill>
                <a:latin typeface="Lucida Grande"/>
              </a:rPr>
              <a:t>Module 9:</a:t>
            </a:r>
            <a:br>
              <a:rPr sz="3200"/>
            </a:br>
            <a:r>
              <a:rPr b="0" lang="fr-SN" sz="3200" spc="-1" strike="noStrike">
                <a:solidFill>
                  <a:srgbClr val="000000"/>
                </a:solidFill>
                <a:latin typeface="Lucida Grande"/>
              </a:rPr>
              <a:t> La prévention: le point de contact comme communicateu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9:  La fonction de messager du point de contact et du R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C63E-DA6B-4413-8219-C279736E7F6C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SN" sz="3600" spc="-1" strike="noStrike">
                <a:solidFill>
                  <a:srgbClr val="1822cd"/>
                </a:solidFill>
                <a:latin typeface="Lucida Grande"/>
              </a:rPr>
              <a:t>Rôle du point de contact et du REP en tant que communicateur stratégique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42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3200" spc="-1" strike="noStrike">
                <a:solidFill>
                  <a:srgbClr val="000000"/>
                </a:solidFill>
                <a:latin typeface="Lucida Grande"/>
              </a:rPr>
              <a:t>Le point de contact est un messager, aux côtés et via le RE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3200" spc="-1" strike="noStrike">
                <a:solidFill>
                  <a:srgbClr val="000000"/>
                </a:solidFill>
                <a:latin typeface="Lucida Grande"/>
              </a:rPr>
              <a:t>Son rôle est de sensibiliser, non de mettre en place une politiqu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2800" spc="-1" strike="noStrike">
                <a:solidFill>
                  <a:srgbClr val="000000"/>
                </a:solidFill>
                <a:latin typeface="Lucida Grande"/>
              </a:rPr>
              <a:t>Sensibilisation du personn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2800" spc="-1" strike="noStrike">
                <a:solidFill>
                  <a:srgbClr val="000000"/>
                </a:solidFill>
                <a:latin typeface="Lucida Grande"/>
              </a:rPr>
              <a:t>Sensibilisation au sein de la communauté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1371600" y="63244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9:  La fonction de messager du point de contact et du R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9394-EED7-4ED1-AC1E-8509BAAA2947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SN" sz="4400" spc="-1" strike="noStrike">
                <a:solidFill>
                  <a:srgbClr val="1822cd"/>
                </a:solidFill>
                <a:latin typeface="Lucida Grande"/>
              </a:rPr>
              <a:t>Défis pour s’acquitter de ces responsabilité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305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2800" spc="-1" strike="noStrike">
                <a:solidFill>
                  <a:srgbClr val="000000"/>
                </a:solidFill>
                <a:latin typeface="Lucida Grande"/>
              </a:rPr>
              <a:t>Ressources et capacités limité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2800" spc="-1" strike="noStrike">
                <a:solidFill>
                  <a:srgbClr val="000000"/>
                </a:solidFill>
                <a:latin typeface="Lucida Grande"/>
              </a:rPr>
              <a:t>Procédures obscur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2800" spc="-1" strike="noStrike">
                <a:solidFill>
                  <a:srgbClr val="000000"/>
                </a:solidFill>
                <a:latin typeface="Lucida Grande"/>
              </a:rPr>
              <a:t>Sensibilité de la ques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2800" spc="-1" strike="noStrike">
                <a:solidFill>
                  <a:srgbClr val="000000"/>
                </a:solidFill>
                <a:latin typeface="Lucida Grande"/>
              </a:rPr>
              <a:t>Barrière de la langue et au niveau de la communic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2800" spc="-1" strike="noStrike">
                <a:solidFill>
                  <a:srgbClr val="000000"/>
                </a:solidFill>
                <a:latin typeface="Lucida Grande"/>
              </a:rPr>
              <a:t>Obtenir l’attention de la dire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2800" spc="-1" strike="noStrike">
                <a:solidFill>
                  <a:srgbClr val="000000"/>
                </a:solidFill>
                <a:latin typeface="Lucida Grande"/>
              </a:rPr>
              <a:t>Pression des pai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2800" spc="-1" strike="noStrike">
                <a:solidFill>
                  <a:srgbClr val="000000"/>
                </a:solidFill>
                <a:latin typeface="Lucida Grande"/>
              </a:rPr>
              <a:t>Vos autres responsabilités (à savoir, votre VERITABLE travail !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7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9:  La fonction de messager du point de contact et du R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BFF7-A413-4DBC-BD4B-6DA2C375F321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SN" sz="4400" spc="-1" strike="noStrike">
                <a:solidFill>
                  <a:srgbClr val="1822cd"/>
                </a:solidFill>
                <a:latin typeface="Lucida Grande"/>
              </a:rPr>
              <a:t>Communication stratégiqu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2800" spc="-1" strike="noStrike">
                <a:solidFill>
                  <a:srgbClr val="000000"/>
                </a:solidFill>
                <a:latin typeface="Arial"/>
              </a:rPr>
              <a:t>La communication stratégique désigne toute activité de communication planifiée cherchant à atteindre un des objectifs de communication suivants : 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2800" spc="-1" strike="noStrike">
                <a:solidFill>
                  <a:srgbClr val="000000"/>
                </a:solidFill>
                <a:latin typeface="Arial"/>
              </a:rPr>
              <a:t>Inform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2800" spc="-1" strike="noStrike">
                <a:solidFill>
                  <a:srgbClr val="000000"/>
                </a:solidFill>
                <a:latin typeface="Arial"/>
              </a:rPr>
              <a:t>Persuader,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2800" spc="-1" strike="noStrike">
                <a:solidFill>
                  <a:srgbClr val="000000"/>
                </a:solidFill>
                <a:latin typeface="Arial"/>
              </a:rPr>
              <a:t>Motiver, ou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2800" spc="-1" strike="noStrike">
                <a:solidFill>
                  <a:srgbClr val="000000"/>
                </a:solidFill>
                <a:latin typeface="Arial"/>
              </a:rPr>
              <a:t>Progresser vers l’a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9:  La fonction de messager du point de contact et du R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24FC-A0DF-4ADC-BFCC-54FE19CE5508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SN" sz="4400" spc="-1" strike="noStrike">
                <a:solidFill>
                  <a:srgbClr val="1822cd"/>
                </a:solidFill>
                <a:latin typeface="Lucida Grande"/>
              </a:rPr>
              <a:t>Communication stratégiqu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85760" indent="-22860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3200" spc="-1" strike="noStrike">
                <a:solidFill>
                  <a:srgbClr val="000000"/>
                </a:solidFill>
                <a:latin typeface="Arial"/>
              </a:rPr>
              <a:t>Des techniques persuasives utilisent souvent des faits, des chiffres et des exemples tirés de la vie de tous les jours;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3200" spc="-1" strike="noStrike">
                <a:solidFill>
                  <a:srgbClr val="000000"/>
                </a:solidFill>
                <a:latin typeface="Arial"/>
              </a:rPr>
              <a:t>Des techniques persuasives en appellent à l’interlocuteur à un niveau personnel et à un niveau intellectuel;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3200" spc="-1" strike="noStrike">
                <a:solidFill>
                  <a:srgbClr val="000000"/>
                </a:solidFill>
                <a:latin typeface="Arial"/>
              </a:rPr>
              <a:t>Les techniques persuasives exigent d’écouter les points de vue des autre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0:18:47Z</dcterms:created>
  <dc:creator>Jeanne Ward</dc:creator>
  <dc:description/>
  <dc:language>en-US</dc:language>
  <cp:lastModifiedBy>christine.bendel</cp:lastModifiedBy>
  <dcterms:modified xsi:type="dcterms:W3CDTF">2009-10-07T16:11:07Z</dcterms:modified>
  <cp:revision>15</cp:revision>
  <dc:subject/>
  <dc:title>Focal Points Training on Protection From Sexual Exploitation and Abuse</dc:title>
</cp:coreProperties>
</file>