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786-A282-4115-A18D-2A1D76A4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D43-7164-42F2-B2AE-D23AAEE9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9E0-81A0-4DCD-B518-56F9B981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DF6-62BD-4FA1-855C-0F763390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CE5F-88DB-45E0-9BFA-E3AF7742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ED1D-B3F2-481F-AE7A-9A0B9E89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43B4-DAF9-4FF2-A7FB-8A42CF80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FF81-70D4-4130-AE38-B82B4AD8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46BF-D175-4832-99F6-19DB07D4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C8D8-FD9B-411C-804E-32BC5A3A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17B2-9891-4B72-8E86-4AE51722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919A-781D-4A0B-AD99-83CE6E4D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5B1C-4A61-4D5E-B130-10B3B649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EE78-139D-4DCC-8F7A-AA7A4546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A766-915C-45A8-AC58-D3708F0B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4EB9-CE30-40D5-8DD8-19429F7A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E307-D3B5-43E3-93CE-6F74CE63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F13-2980-4B15-BAC6-5108A443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F92-1F7E-41C8-A0A0-9CB45C2C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E79-AB78-46C4-9A1E-FCE5740B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38B-07B8-4793-BC65-7ACFF7C7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2A3C-4876-4251-A97D-0A0605D6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715C-DD78-4223-A162-C10CB6ED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DEFD-0FB2-4BE4-97AD-481642EE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 9:  The Focal Point and ICN as Messe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637B-F51D-4E62-B29A-877E7B8EE047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Group 8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Rectangle 9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14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5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Rectangle 6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486240"/>
              <a:ext cx="9137520" cy="375480"/>
              <a:chOff x="0" y="3486240"/>
              <a:chExt cx="9137520" cy="375480"/>
            </a:xfrm>
          </p:grpSpPr>
          <p:sp>
            <p:nvSpPr>
              <p:cNvPr id="56" name="Rectangle 8"/>
              <p:cNvSpPr/>
              <p:nvPr/>
            </p:nvSpPr>
            <p:spPr>
              <a:xfrm flipV="1">
                <a:off x="0" y="3507840"/>
                <a:ext cx="9137520" cy="9108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600360"/>
                <a:ext cx="9137520" cy="22176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486240"/>
                <a:ext cx="9137520" cy="2268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 flipV="1">
                <a:off x="0" y="381744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359316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Rectangle 13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14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 9:  The Focal Point and ICN as Messe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640B-A5AC-4A20-AA0F-576F2EE1B9D6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Focal Points Training on Protection From Sexual Exploitation and Abus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odule 9: Focus on Prevention: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Focal Point as Messeng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9:  The Focal Point and ICN as Messe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1BE4-AA46-4019-BE34-14C4B5F7A8EA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Role of the Focal Point and ICN </a:t>
            </a:r>
            <a:br>
              <a:rPr sz="4000"/>
            </a:b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as Strategic Communicator</a:t>
            </a:r>
            <a:endParaRPr b="1" lang="en-US" sz="40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428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cal point is a messenger, alongside and through IC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ole is to raise awareness, not set polic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wareness raising amongst staff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wareness raising in the communit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9:  The Focal Point and ICN as Messe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762B-9DDF-4082-993F-91EB7E991749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hallenges to </a:t>
            </a:r>
            <a:br>
              <a:rPr sz="4400"/>
            </a:b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eeting Responsibiliti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imited resources and capacit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nclear procedur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 sensitive subject matt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anguage and communication barrie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etting managerial atten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eer pressur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your other responsibilities (i.e. your REAL job!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9:  The Focal Point and ICN as Messe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8A18-6F3C-424D-9B1B-C46B520DDC24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trategic Communic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communication is any planned communication activity that seeks to achieve one of the following communication goals: 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,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de,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, or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o Ac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9:  The Focal Point and ICN as Messe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12D0-B453-4B8A-AC06-D89D4FD61600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trategic Communic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85760" indent="-22860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uasive techniques often use facts, figures and real life human examples;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uasive techniques appeal to the audience at a personal level as well as an intellectual level;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uasive techniques include listening to others’ viewpoint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0:18:47Z</dcterms:created>
  <dc:creator>Jeanne Ward</dc:creator>
  <dc:description/>
  <dc:language>en-US</dc:language>
  <cp:lastModifiedBy>jaqueline.carleson</cp:lastModifiedBy>
  <dcterms:modified xsi:type="dcterms:W3CDTF">2009-08-31T15:01:49Z</dcterms:modified>
  <cp:revision>13</cp:revision>
  <dc:subject/>
  <dc:title>Focal Points Training on Protection From Sexual Exploitation and Abuse</dc:title>
</cp:coreProperties>
</file>