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7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lick to move the slide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BB06F42-E3E9-4F56-AAC9-797BE2C21E0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F41C6A6-4E76-4236-8A27-CEB1DB4702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8A34-43EC-4DD3-9355-E88A7D4D5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A757-A6D2-4471-B61E-CDE5CB6FA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D40A-3212-435C-8F90-B0DC33756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8FB2-57D4-4D99-9F8B-0EEDEC153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CBDB9-434C-4D09-B7B6-8BF9D53CE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ACD3C-AE49-4773-A2ED-1E5A9EAE2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5A2EA-0661-4D51-91F3-2935DAE92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7C46F-F292-4B6D-B7D1-235E0B800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F9982-F54F-423E-BD8A-5046EC0C8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DCA03-4A96-4D43-9FA0-81AD03E0A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FF82A-6501-4A0A-8B4D-2E44AFC39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8775-4524-48FF-9D04-07C5F7F89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F8B2B-4FC6-4AA1-9115-2756BF9E9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6FA0B-11A5-44C2-892F-D519FADA8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FB50E-A7E9-43E2-A3DF-F44F8F0F1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4037F-F101-4A7B-93D9-5FB43BB46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E53BC-9B9F-4956-926C-7D9A971BC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615C-8923-4696-A6BA-215A5CBDF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0DFF-10EC-481E-B6C1-3F1EEF801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7E8C-D387-4A1F-A7CD-424300F82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ECF2-FD41-4530-BB48-1FFBFCE4B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5A2F-831B-4DEC-8FCF-2F0302B66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CE46-2105-42FF-A3E1-41C65334E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1F58-E023-4EDE-9BFC-04E5B9CAA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0" y="1905120"/>
            <a:ext cx="38088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fffff"/>
              </a:gs>
              <a:gs pos="100000">
                <a:srgbClr val="b3d1f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 flipH="1">
            <a:off x="8686080" y="1905120"/>
            <a:ext cx="45396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fffff"/>
              </a:gs>
              <a:gs pos="100000">
                <a:srgbClr val="b3d1f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1371240" y="6552720"/>
            <a:ext cx="716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odule 6:  Focus on Reporting, Investigations, and Disciplinary Proceed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822c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A7EC7-92D2-4682-8D6A-41EE2684665C}" type="slidenum">
              <a:rPr b="0" lang="en-GB" sz="1400" spc="-1" strike="noStrike">
                <a:solidFill>
                  <a:srgbClr val="1822c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0" y="0"/>
            <a:ext cx="9144000" cy="1752480"/>
            <a:chOff x="0" y="0"/>
            <a:chExt cx="9144000" cy="1752480"/>
          </a:xfrm>
        </p:grpSpPr>
        <p:grpSp>
          <p:nvGrpSpPr>
            <p:cNvPr id="6" name="Group 8"/>
            <p:cNvGrpSpPr/>
            <p:nvPr/>
          </p:nvGrpSpPr>
          <p:grpSpPr>
            <a:xfrm>
              <a:off x="6480" y="1219320"/>
              <a:ext cx="9137520" cy="380160"/>
              <a:chOff x="6480" y="1219320"/>
              <a:chExt cx="9137520" cy="380160"/>
            </a:xfrm>
          </p:grpSpPr>
          <p:sp>
            <p:nvSpPr>
              <p:cNvPr id="7" name="Rectangle 9"/>
              <p:cNvSpPr/>
              <p:nvPr/>
            </p:nvSpPr>
            <p:spPr>
              <a:xfrm flipV="1">
                <a:off x="6480" y="1241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6480" y="1334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9bee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6480" y="1219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78de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 flipV="1">
                <a:off x="6480" y="1554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9bee7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6480" y="1327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" name="Rectangle 14"/>
            <p:cNvSpPr/>
            <p:nvPr/>
          </p:nvSpPr>
          <p:spPr>
            <a:xfrm>
              <a:off x="0" y="0"/>
              <a:ext cx="9144000" cy="1219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40" y="1600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4680" y="1184400"/>
              <a:ext cx="9139320" cy="74520"/>
            </a:xfrm>
            <a:prstGeom prst="rect">
              <a:avLst/>
            </a:prstGeom>
            <a:solidFill>
              <a:srgbClr val="777777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" name="PlaceHolder 4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body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spcBef>
                <a:spcPts val="7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3" marL="1428840" indent="-228600">
              <a:spcBef>
                <a:spcPts val="799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4" marL="1771560" indent="-228600">
              <a:spcBef>
                <a:spcPts val="7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5"/>
          <p:cNvGrpSpPr/>
          <p:nvPr/>
        </p:nvGrpSpPr>
        <p:grpSpPr>
          <a:xfrm>
            <a:off x="0" y="0"/>
            <a:ext cx="9144000" cy="4038480"/>
            <a:chOff x="0" y="0"/>
            <a:chExt cx="9144000" cy="4038480"/>
          </a:xfrm>
        </p:grpSpPr>
        <p:sp>
          <p:nvSpPr>
            <p:cNvPr id="54" name="Rectangle 6"/>
            <p:cNvSpPr/>
            <p:nvPr/>
          </p:nvSpPr>
          <p:spPr>
            <a:xfrm>
              <a:off x="0" y="0"/>
              <a:ext cx="9144000" cy="3505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Group 7"/>
            <p:cNvGrpSpPr/>
            <p:nvPr/>
          </p:nvGrpSpPr>
          <p:grpSpPr>
            <a:xfrm>
              <a:off x="0" y="3486240"/>
              <a:ext cx="9137520" cy="375480"/>
              <a:chOff x="0" y="3486240"/>
              <a:chExt cx="9137520" cy="375480"/>
            </a:xfrm>
          </p:grpSpPr>
          <p:sp>
            <p:nvSpPr>
              <p:cNvPr id="56" name="Rectangle 8"/>
              <p:cNvSpPr/>
              <p:nvPr/>
            </p:nvSpPr>
            <p:spPr>
              <a:xfrm flipV="1">
                <a:off x="0" y="3507840"/>
                <a:ext cx="9137520" cy="9108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0" y="3600360"/>
                <a:ext cx="9137520" cy="22176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9bee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0" y="3486240"/>
                <a:ext cx="9137520" cy="2268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78de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 flipV="1">
                <a:off x="0" y="3817440"/>
                <a:ext cx="9137520" cy="43560"/>
              </a:xfrm>
              <a:prstGeom prst="rect">
                <a:avLst/>
              </a:prstGeom>
              <a:gradFill rotWithShape="0">
                <a:gsLst>
                  <a:gs pos="0">
                    <a:srgbClr val="a9bee7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3593160"/>
                <a:ext cx="9137520" cy="4356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Rectangle 13"/>
            <p:cNvSpPr/>
            <p:nvPr/>
          </p:nvSpPr>
          <p:spPr>
            <a:xfrm>
              <a:off x="3240" y="3886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Rectangle 14"/>
          <p:cNvSpPr/>
          <p:nvPr/>
        </p:nvSpPr>
        <p:spPr>
          <a:xfrm>
            <a:off x="0" y="3470400"/>
            <a:ext cx="9139320" cy="74520"/>
          </a:xfrm>
          <a:prstGeom prst="rect">
            <a:avLst/>
          </a:prstGeom>
          <a:solidFill>
            <a:srgbClr val="777777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spcBef>
                <a:spcPts val="7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3" marL="1428840" indent="-228600">
              <a:spcBef>
                <a:spcPts val="799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4" marL="1771560" indent="-228600">
              <a:spcBef>
                <a:spcPts val="7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odule 6:  Focus on Reporting, Investigations, and Disciplinary Proceed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822c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F1E0B-2843-43AC-8410-1268184D4755}" type="slidenum">
              <a:rPr b="0" lang="en-GB" sz="1400" spc="-1" strike="noStrike">
                <a:solidFill>
                  <a:srgbClr val="1822c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822cd"/>
                </a:solidFill>
                <a:latin typeface="Lucida Grande"/>
              </a:rPr>
              <a:t>Focal Points Training on Protection from Sexual Exploitation and Abuse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Module 6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Focus on Response:  Overview of Reporting Systems, Investigations and Disciplinary Proceeding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4"/>
          <p:cNvSpPr/>
          <p:nvPr/>
        </p:nvSpPr>
        <p:spPr>
          <a:xfrm>
            <a:off x="1371600" y="6553080"/>
            <a:ext cx="716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odule 6:  Focus on Reporting, Investigations, and Disciplinary Proceed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5"/>
          <p:cNvSpPr/>
          <p:nvPr/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F4EFB-0B07-4D99-A4BF-1D6E8FB5548C}" type="slidenum">
              <a:rPr b="0" lang="en-GB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22cd"/>
                </a:solidFill>
                <a:latin typeface="Lucida Grande"/>
              </a:rPr>
              <a:t>Brief Introduction to Investigations</a:t>
            </a:r>
            <a:endParaRPr b="1" lang="en-US" sz="36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Grande"/>
              </a:rPr>
              <a:t>Focal Point must not investigate!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It is the decision of the appropriate section of the organization whether a formal investigation should be undertaken and how.  The investigation section may: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Instruct the HoO and/or someone in the field to make enquiries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Send an investigative team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Decide to take no further action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Some agencies within the UN have their own offices to conduct investigations: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UNHCR:  Inspector Genera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UN Secretariat:  OIOS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OHRM / Joint Disciplinary Committee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UNDP:  OAI (Office of Audit and Investigations)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UNICEF:  OIA (Office of Internal Audit)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4"/>
          <p:cNvSpPr/>
          <p:nvPr/>
        </p:nvSpPr>
        <p:spPr>
          <a:xfrm>
            <a:off x="1371600" y="6553080"/>
            <a:ext cx="716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odule 6:  Focus on Reporting, Investigations, and Disciplinary Proceed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5"/>
          <p:cNvSpPr/>
          <p:nvPr/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E2ABF-68F5-419A-8DF6-002551A77A2E}" type="slidenum">
              <a:rPr b="0" lang="en-GB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22cd"/>
                </a:solidFill>
                <a:latin typeface="Lucida Grande"/>
              </a:rPr>
              <a:t>Brief Introduction to </a:t>
            </a:r>
            <a:br>
              <a:rPr sz="3600"/>
            </a:br>
            <a:r>
              <a:rPr b="1" lang="en-GB" sz="3600" spc="-1" strike="noStrike">
                <a:solidFill>
                  <a:srgbClr val="1822cd"/>
                </a:solidFill>
                <a:latin typeface="Lucida Grande"/>
              </a:rPr>
              <a:t>Disciplinary Procedures</a:t>
            </a:r>
            <a:endParaRPr b="1" lang="en-US" sz="36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Disciplinary authority often rests with human resources or senior management, sometimes in consultation with the legal offic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For UN Secretariat, disciplinary action is at the discretion of the SG, based on recommendations from OHRM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SG has no authority over uniformed personnel; discretion of member state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1371600" y="6553080"/>
            <a:ext cx="716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odule 6:  Focus on Reporting, Investigations, and Disciplinary Proceed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5"/>
          <p:cNvSpPr/>
          <p:nvPr/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FC8BA-C88E-40F7-B3E1-983E996BB14D}" type="slidenum">
              <a:rPr b="0" lang="en-GB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22cd"/>
                </a:solidFill>
                <a:latin typeface="Lucida Grande"/>
              </a:rPr>
              <a:t>Reporting Mechanisms</a:t>
            </a:r>
            <a:endParaRPr b="1" lang="en-US" sz="36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Grande"/>
              </a:rPr>
              <a:t>SGB requires all allegations to be reported via “established reporting mechanisms”</a:t>
            </a:r>
            <a:endParaRPr b="0" lang="en-US" sz="21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Grande"/>
              </a:rPr>
              <a:t>Not well established in most settings</a:t>
            </a:r>
            <a:endParaRPr b="0" lang="en-US" sz="21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Grande"/>
              </a:rPr>
              <a:t>Each agency responsible for its own </a:t>
            </a:r>
            <a:r>
              <a:rPr b="0" lang="en-GB" sz="2100" spc="-1" strike="noStrike">
                <a:solidFill>
                  <a:srgbClr val="f06157"/>
                </a:solidFill>
                <a:latin typeface="Lucida Grande"/>
              </a:rPr>
              <a:t>internal</a:t>
            </a:r>
            <a:r>
              <a:rPr b="0" lang="en-GB" sz="2100" spc="-1" strike="noStrike">
                <a:solidFill>
                  <a:srgbClr val="000000"/>
                </a:solidFill>
                <a:latin typeface="Lucida Grande"/>
              </a:rPr>
              <a:t> reporting system</a:t>
            </a:r>
            <a:endParaRPr b="0" lang="en-US" sz="21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Grande"/>
              </a:rPr>
              <a:t>Focal points should contact HQ to determine if internal systems are established</a:t>
            </a:r>
            <a:endParaRPr b="0" lang="en-US" sz="21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Grande"/>
              </a:rPr>
              <a:t>Focal Points may wish to work with HQ to propose an appropriate system for internal reporting</a:t>
            </a:r>
            <a:endParaRPr b="0" lang="en-US" sz="21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Grande"/>
              </a:rPr>
              <a:t>Agencies should work together and with local communities to establish </a:t>
            </a:r>
            <a:r>
              <a:rPr b="0" lang="en-GB" sz="2100" spc="-1" strike="noStrike">
                <a:solidFill>
                  <a:srgbClr val="f06157"/>
                </a:solidFill>
                <a:latin typeface="Lucida Grande"/>
              </a:rPr>
              <a:t>external </a:t>
            </a:r>
            <a:r>
              <a:rPr b="0" lang="en-GB" sz="2100" spc="-1" strike="noStrike">
                <a:solidFill>
                  <a:srgbClr val="000000"/>
                </a:solidFill>
                <a:latin typeface="Lucida Grande"/>
              </a:rPr>
              <a:t>reporting mechanisms, so that communities know where and how to report  </a:t>
            </a:r>
            <a:endParaRPr b="0" lang="en-US" sz="21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Grande"/>
              </a:rPr>
              <a:t>Focal Points should work through the ICN to develop external reporting mechanisms</a:t>
            </a:r>
            <a:endParaRPr b="0" lang="en-US" sz="21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822cd"/>
                </a:solidFill>
                <a:latin typeface="Lucida Grande"/>
              </a:rPr>
              <a:t>To Whom to Report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Potential options: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Focal Point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Heads of Office / Country Representative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Director of human resource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HQ Focal Point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OIOS / Agency-specific investigation unit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CDTs or CDU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Grande"/>
              </a:rPr>
              <a:t>Other agency channels / appropriate office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Provide an array of option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4"/>
          <p:cNvSpPr/>
          <p:nvPr/>
        </p:nvSpPr>
        <p:spPr>
          <a:xfrm>
            <a:off x="1371600" y="6553080"/>
            <a:ext cx="716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odule 6:  Focus on Reporting, Investigations, and Disciplinary Proceed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5"/>
          <p:cNvSpPr/>
          <p:nvPr/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6903B-D535-4E85-9780-2FE5A4CFE256}" type="slidenum">
              <a:rPr b="0" lang="en-GB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Lucida Grande"/>
              </a:rPr>
              <a:t>General Principles </a:t>
            </a:r>
            <a:br>
              <a:rPr sz="4000"/>
            </a:br>
            <a:r>
              <a:rPr b="1" lang="en-GB" sz="4000" spc="-1" strike="noStrike">
                <a:solidFill>
                  <a:srgbClr val="1822cd"/>
                </a:solidFill>
                <a:latin typeface="Lucida Grande"/>
              </a:rPr>
              <a:t>for Forwarding Allegations</a:t>
            </a:r>
            <a:endParaRPr b="1" lang="en-US" sz="40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Limit the number of people informed of complaint to ensure confidentiality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In all cases, the normal reporting hierarchy for an office should not apply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Complaints should end up in human resources or relevant unit at HQ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In the field, can refer complaints to Head of Office / Representative or report directly to human resources or other appropriate agency channel at HQ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4"/>
          <p:cNvSpPr/>
          <p:nvPr/>
        </p:nvSpPr>
        <p:spPr>
          <a:xfrm>
            <a:off x="1371600" y="6553080"/>
            <a:ext cx="716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odule 6:  Focus on Reporting, Investigations, and Disciplinary Proceed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5"/>
          <p:cNvSpPr/>
          <p:nvPr/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2F9FC-26AC-43E4-A4ED-C359A28768CD}" type="slidenum">
              <a:rPr b="0" lang="en-GB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822cd"/>
                </a:solidFill>
                <a:latin typeface="Lucida Grande"/>
              </a:rPr>
              <a:t>Focal Point as a Channel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Focal point channels allegations to appropriate office at HQ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Focal point does not assess veracity of allegation before forwarding it on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All staff have reporting obligations and should be open to receiving and reporting complaints - they do not have to go through the focal poin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4"/>
          <p:cNvSpPr/>
          <p:nvPr/>
        </p:nvSpPr>
        <p:spPr>
          <a:xfrm>
            <a:off x="1371600" y="6553080"/>
            <a:ext cx="716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odule 6:  Focus on Reporting, Investigations, and Disciplinary Proceed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5"/>
          <p:cNvSpPr/>
          <p:nvPr/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A816C-95E0-48F3-9DB9-008727CDD0C9}" type="slidenum">
              <a:rPr b="0" lang="en-GB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822cd"/>
                </a:solidFill>
                <a:latin typeface="Lucida Grande"/>
              </a:rPr>
              <a:t>Cross-Agency Reporting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Focal points or other staff may receive allegations regarding someone from another agency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The principle is confidentiality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The aim is for the allegation to reach the appropriate section of the relevant organization as quickly as possibl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4"/>
          <p:cNvSpPr/>
          <p:nvPr/>
        </p:nvSpPr>
        <p:spPr>
          <a:xfrm>
            <a:off x="1371600" y="6553080"/>
            <a:ext cx="716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odule 6:  Focus on Reporting, Investigations, and Disciplinary Proceed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5"/>
          <p:cNvSpPr/>
          <p:nvPr/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F2873-0627-4C73-855D-3056E1005BE9}" type="slidenum">
              <a:rPr b="0" lang="en-GB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822cd"/>
                </a:solidFill>
                <a:latin typeface="Lucida Grande"/>
              </a:rPr>
              <a:t>Reporting to Local Authoritie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Where the alleged act constitutes a crime, the focal point should explore with the complainant (alleged victim) whether they would like assistance with reporting to authoritie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The decision to report to authorities rests solely with the complainant (alleged victim)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The focal point is not the lawyer or advocate!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Supporting the alleged victim to access local authorities is different from an official referral!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4"/>
          <p:cNvSpPr/>
          <p:nvPr/>
        </p:nvSpPr>
        <p:spPr>
          <a:xfrm>
            <a:off x="1371600" y="6553080"/>
            <a:ext cx="716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odule 6:  Focus on Reporting, Investigations, and Disciplinary Proceed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5"/>
          <p:cNvSpPr/>
          <p:nvPr/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44ED6-B128-4B79-BF3A-2693FBEE7240}" type="slidenum">
              <a:rPr b="0" lang="en-GB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822cd"/>
                </a:solidFill>
                <a:latin typeface="Lucida Grande"/>
              </a:rPr>
              <a:t>Securing Information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All information should be kept secure and made accessible only by focal point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Focal points should keep regular statistics on reports and follow up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4"/>
          <p:cNvSpPr/>
          <p:nvPr/>
        </p:nvSpPr>
        <p:spPr>
          <a:xfrm>
            <a:off x="1371600" y="6553080"/>
            <a:ext cx="716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odule 6:  Focus on Reporting, Investigations, and Disciplinary Proceed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5"/>
          <p:cNvSpPr/>
          <p:nvPr/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890B5-67A1-4A99-A503-EE3460029248}" type="slidenum">
              <a:rPr b="0" lang="en-GB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22cd"/>
                </a:solidFill>
                <a:latin typeface="Lucida Grande"/>
              </a:rPr>
              <a:t>Formalizing a System for Reporting and Forwarding Complaints</a:t>
            </a:r>
            <a:endParaRPr b="1" lang="en-US" sz="36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Consider to whom and how you will receive and forward complaint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15360" indent="-31536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Work in the ICN and communities to develop community-based complaints mechanism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15360" indent="-31536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Prioritize confidentiality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15360" indent="-31536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Discuss recommendations with Head of Office or HQ Focal Poin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15360" indent="-31536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Draft a memo!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6T14:31:20Z</dcterms:created>
  <dc:creator>Jeanne Ward</dc:creator>
  <dc:description/>
  <dc:language>en-US</dc:language>
  <cp:lastModifiedBy>jaqueline.carleson</cp:lastModifiedBy>
  <dcterms:modified xsi:type="dcterms:W3CDTF">2009-08-31T14:55:49Z</dcterms:modified>
  <cp:revision>57</cp:revision>
  <dc:subject/>
  <dc:title>Focal Points Training on Protection from Sexual Exploitation and Abuse</dc:title>
</cp:coreProperties>
</file>