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move the slid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1E4A-75A3-4BB2-BDB4-39BFFDFB3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408E-10CB-4ACF-8568-906DC8B2B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02B1-6612-487A-942E-0DFC65A55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E056-4A51-4245-8FE7-18FF4497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B272-6381-4779-A59B-8F8D01CC0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ACD8-42C2-4A07-B98B-F1774B94A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F232F-8328-4FB4-BAA7-E60560C8D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E70E-307E-441E-A652-97DBD58D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33CB-40BE-405D-95B0-B87F6FAA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C917-C875-4CF3-9B5E-73B5B802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FF99-B671-4F32-A70A-CD136534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CA30-8305-417C-B320-BBB39852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0A65-8ABF-4ED7-AC4B-DCEA1792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B9EC-0C56-4093-873E-D4C763FF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5120-AFCE-4989-846C-2FCC010A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7A68-E9E3-4C0E-8A7C-70C2BCC8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AED8-E5D3-42BB-815E-9CE3610D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4142-FFE8-4E47-9E41-8BFB4593C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1998-3407-4856-AC89-747AFAF24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8C7C-48E6-4802-8858-EF82406A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5E83-B1A9-4CA3-BA33-B2F17305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52E2-D738-48F7-9A81-733579E5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D2D7-31F9-47C1-B27D-4E8F25F8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6F43-4E77-42A4-A934-45577B6F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3F9F-6009-410D-BA1D-088ED5BB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69FA-B3D0-46A9-A927-657A8CAC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fffff"/>
              </a:gs>
              <a:gs pos="100000">
                <a:srgbClr val="b3d1f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fffff"/>
              </a:gs>
              <a:gs pos="100000">
                <a:srgbClr val="b3d1f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 1:  Opening and Introdu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F9CF-825B-4DC0-8CB7-982FFA8CD30A}" type="slidenum">
              <a:rPr b="0" lang="en-US" sz="1400" spc="-1" strike="noStrike">
                <a:solidFill>
                  <a:srgbClr val="1822c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Group 8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Rectangle 9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9bee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78d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9bee7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Rectangle 14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5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Rectangle 6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7"/>
            <p:cNvGrpSpPr/>
            <p:nvPr/>
          </p:nvGrpSpPr>
          <p:grpSpPr>
            <a:xfrm>
              <a:off x="0" y="3486240"/>
              <a:ext cx="9137520" cy="375480"/>
              <a:chOff x="0" y="3486240"/>
              <a:chExt cx="9137520" cy="375480"/>
            </a:xfrm>
          </p:grpSpPr>
          <p:sp>
            <p:nvSpPr>
              <p:cNvPr id="56" name="Rectangle 8"/>
              <p:cNvSpPr/>
              <p:nvPr/>
            </p:nvSpPr>
            <p:spPr>
              <a:xfrm flipV="1">
                <a:off x="0" y="3507840"/>
                <a:ext cx="9137520" cy="9108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0" y="3600360"/>
                <a:ext cx="9137520" cy="22176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9bee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0" y="3486240"/>
                <a:ext cx="9137520" cy="2268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78d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 flipV="1">
                <a:off x="0" y="3817440"/>
                <a:ext cx="9137520" cy="43560"/>
              </a:xfrm>
              <a:prstGeom prst="rect">
                <a:avLst/>
              </a:prstGeom>
              <a:gradFill rotWithShape="0">
                <a:gsLst>
                  <a:gs pos="0">
                    <a:srgbClr val="a9bee7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3593160"/>
                <a:ext cx="9137520" cy="4356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Rectangle 13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Rectangle 14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e 1:  Opening and Introdu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472E-6794-450B-8425-072CAE00AD35}" type="slidenum">
              <a:rPr b="0" lang="en-US" sz="1400" spc="-1" strike="noStrike">
                <a:solidFill>
                  <a:srgbClr val="1822c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un.org/pseataskforce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1:  Opening and Introdu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2744-1CAF-46E6-B2ED-36256303259C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Focal Points Training on Protection From Sexual Exploitation and Abus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odule 1:  Opening and Introduction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1:  Opening and Introdu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FB02-074C-4496-B89B-1715C01F478A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Introduction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428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hat is your name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ho do you work for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hat is your job title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hat is one expectation you have for this training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1:  Opening and Introdu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A983-5F73-47EA-B2DD-1883A485DB67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Training Objectiv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o increase understanding of sexual exploitation and abuse (SEA) by UN/NGO/IGO personnel and its consequenc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o advance understanding of the UN Secretary General’s Bulletin and standards of conduc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o create a forum for sharing experience and expertis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o enable participants to fulfil focal point responsibiliti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o provide materials to replicate training on return to field sit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1:  Opening and Introdu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6433-CE7A-46AD-8640-910107977E16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Training Agenda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ay 1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Reviewing the Basics:  Gender, GBV and SEA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he Secretary General’s Bulletin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ay 2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ramework for Action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Responsibilities of Focal Point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Overview of Reporting, Investigation and Disciplinary Proceeding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Receiving Complaint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ay 3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Assisting Victim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ocal Point as Messenger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Developing an Action Plan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1:  Opening and Introdu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8473-F77B-4643-832E-D1C820124AF5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Focal Points may represent…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UN, NGOs, IGO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umanitarian Staff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eacekeeping Staff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evelopment Staff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1371600" y="655308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1:  Opening and Introdu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9D2C-94D0-4789-8DD2-C2B6C28984DF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Background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3568c7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Allegations in many missions: BiH, Kosovo, Timor Leste - 1990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3568c7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West Africa UNHCR / Save the Children report - 2002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3568c7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IASC Task Force established &amp; Plan of Action - June 2002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3568c7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Secretary-General’s Bulletin - October 2003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3568c7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Media explosion about continued SEA in DRC - December 2004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IASC Task Force transitioned to ECHA/ECPS UN and NGO Task Force - 2005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UN and NGO Statement of Commitment - December 2006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NGO work on Building Safer Organizations - 2006-2007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3568c7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UN Victim Assistance Strategy - December 2007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568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Resource materials available at </a:t>
            </a:r>
            <a:r>
              <a:rPr b="0" lang="en-US" sz="1600" spc="-1" strike="noStrike" u="sng">
                <a:solidFill>
                  <a:srgbClr val="ff9218"/>
                </a:solidFill>
                <a:uFillTx/>
                <a:latin typeface="Garamond"/>
                <a:hlinkClick r:id="rId1"/>
              </a:rPr>
              <a:t>www.un.org/pseataskforce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07:18:17Z</dcterms:created>
  <dc:creator>Jeanne Ward</dc:creator>
  <dc:description/>
  <dc:language>en-US</dc:language>
  <cp:lastModifiedBy>jaqueline.carleson</cp:lastModifiedBy>
  <dcterms:modified xsi:type="dcterms:W3CDTF">2010-01-15T21:28:02Z</dcterms:modified>
  <cp:revision>44</cp:revision>
  <dc:subject/>
  <dc:title>Focal Points Training on Protection From Sexual Exploitation and Abuse</dc:title>
</cp:coreProperties>
</file>