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6D57A6-CD17-447F-931C-3A001DCC8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3A2D12-7971-4DCF-8C75-D08AEC644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3BF8CC-C7DE-4EF7-902F-D606241AA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053-6AC4-4B1F-923B-59BF8383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0F0-266D-4E21-B06F-189D4145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261-AAC5-4F3E-AF83-1E061A28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934-274C-4ECD-A302-9BEEFFBF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A74E-2923-424C-9746-47376806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14AA-44C4-4359-93CA-31554220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3377-5FF4-4503-A545-6127BCF1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A50D-E0AC-46BF-B4BF-9651128C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3867-69E3-497A-8785-8D5182F4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3EC1-9B55-4639-9003-A7436355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4CAF-CE36-4600-A38E-3384C3B8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918-5D9F-4F26-A0E1-BC5F3066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29F6-26FF-4F18-9304-46E5E0FE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26D7-6A44-40B4-829C-260C86D7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C7BC-B50E-4A56-99CE-52D92700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D1B8-5754-4596-9DBD-24D04241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AD2D-CC5B-4A90-9FAE-8B2F86D6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2FB-6C5B-4AA7-97F9-B3721AFF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FC6-8688-4F62-A25E-1B8CB159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99B-5A05-45D1-8436-BB27FF1A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965-5E21-4DFA-9233-D068A768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32E4-DFC0-4C9B-AD49-F3F71EE3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B41-3150-40CD-BF30-A28D00BA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0CC-1F28-420E-B887-08C239C7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4:  Framework for 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4DDC-6814-4A61-A040-20A4E01CE8EC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Group 8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Rectangle 9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14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Rectangle 6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486240"/>
              <a:ext cx="9137520" cy="375480"/>
              <a:chOff x="0" y="3486240"/>
              <a:chExt cx="9137520" cy="375480"/>
            </a:xfrm>
          </p:grpSpPr>
          <p:sp>
            <p:nvSpPr>
              <p:cNvPr id="56" name="Rectangle 8"/>
              <p:cNvSpPr/>
              <p:nvPr/>
            </p:nvSpPr>
            <p:spPr>
              <a:xfrm flipV="1">
                <a:off x="0" y="3507840"/>
                <a:ext cx="9137520" cy="9108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600360"/>
                <a:ext cx="9137520" cy="22176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486240"/>
                <a:ext cx="9137520" cy="2268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 flipV="1">
                <a:off x="0" y="381744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359316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Rectangle 13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14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4:  Framework for 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03B1-ECF9-41CB-9BBB-068A265CA6F6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Lucida Grande"/>
              </a:rPr>
              <a:t>Focal Points Training on Protection From Sexual Exploitation and Abuse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odule 4:  Framework for Taking Action: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FOUR PILLARS OF COMMUNITY ENGAGEMENT, PREVENTION, REPONSE, and MANAGEMENT AND COORDIN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Framework for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2C11-8C84-4EFD-913E-6291E8A20FEB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Who in Agencies Works on PSEA?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uman Resource / Administration / Conduct and Discipline Teams (CDT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perations or Programmes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uster actors (Camp Mgt, Health, Protection, etc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BV staff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ender team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mmunity servic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raining Staff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Framework for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F65D-5614-4A2D-BCCE-DDED3AFA2B12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our Pillars of PSEA Work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42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ngagement with and Support of Local Popula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reven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sponse Systems, including victim assistan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nagement and Coordin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Framework for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3680-FDDB-4BDE-BF2A-8E81F47B6F29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chematic Framework for PSEA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965240" y="1179360"/>
            <a:ext cx="504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2575080" y="1736640"/>
            <a:ext cx="4221000" cy="398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2133720" y="1523880"/>
            <a:ext cx="5029200" cy="2057400"/>
          </a:xfrm>
          <a:prstGeom prst="ellipse">
            <a:avLst/>
          </a:prstGeom>
          <a:solidFill>
            <a:srgbClr val="f06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ment with and Suppor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2438280" y="3048120"/>
            <a:ext cx="2286000" cy="1904760"/>
          </a:xfrm>
          <a:prstGeom prst="ellipse">
            <a:avLst/>
          </a:prstGeom>
          <a:solidFill>
            <a:srgbClr val="acf2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4495680" y="3124080"/>
            <a:ext cx="2286000" cy="1905120"/>
          </a:xfrm>
          <a:prstGeom prst="ellipse">
            <a:avLst/>
          </a:prstGeom>
          <a:solidFill>
            <a:srgbClr val="e4dc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"/>
          <p:cNvSpPr/>
          <p:nvPr/>
        </p:nvSpPr>
        <p:spPr>
          <a:xfrm>
            <a:off x="2362320" y="5257800"/>
            <a:ext cx="5105160" cy="990720"/>
          </a:xfrm>
          <a:prstGeom prst="ellipse">
            <a:avLst/>
          </a:prstGeom>
          <a:solidFill>
            <a:srgbClr val="e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and 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Framework for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A0D9-0B26-42BC-81F7-A14ABDCB32A6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Engagement with and Support of Local Popula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stablishing common complaints mechanisms in each community where the UN, NGOs and IGOs work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ducating the community about their rights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ngaging the community in monitoring SEA risk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ngaging the community in strategies for prevention and response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ncouraging community reporting on SEA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Framework for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57AD-F75F-4B7D-867D-5ACFB6677AC1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reven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suring country-wide awareness raising for staff and related personnel is underway (whether collectively or by agency)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reating mechanisms for addressing the risk of SEA in our programmes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eveloping codes of conduct with standards at least equal to those in the SGB (by agency; for the UN, the SGB already serves the purpose of a code of conduct)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Framework for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60C2-67D0-41EB-8CE5-743AAF0D69AF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espons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eveloping complaints procedures for staff and other personnel to report incidents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eveloping investigation procedures and capacity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suring disciplinary actions and sanctions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stablishing and implementing a victim assistance mechanism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Framework for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EF3B-9067-4FAA-A26D-0E60617F369E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Management and Coordin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trengthening senior leadership on PSEA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ddressing internal management issues (i.e. PSEA responsibilities in focal points’ ToRs; SGB standards in contractual arrangements; PSEA in performance management)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stablishing and coordinating PSEA network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Framework for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30ED-939E-43D3-BFD6-22723F430816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Roles and Responsibilities of Managers at Country Level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ne of the SGB six principles calls on managers to develop and support systems to prevent SEA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ppoint and support Focal Points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sure staff receive SG’s Bulletin; conduct awareness-raising with staff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sure all cooperative agreements include code of conduct/SGB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sure complaints/reports procedures and documentation processes are in place;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sure managers are familiar with existing investigation and disciplinary system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:  Framework for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79C5-CE40-450A-B3A3-3FFF8F388BE2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Lucida Grande"/>
              </a:rPr>
              <a:t>SEA – Minimum Operating Standards</a:t>
            </a:r>
            <a:r>
              <a:rPr b="1" lang="en-US" sz="4000" spc="-1" strike="noStrike">
                <a:solidFill>
                  <a:srgbClr val="1822cd"/>
                </a:solidFill>
                <a:latin typeface="Lucida Grande"/>
              </a:rPr>
              <a:t>: SEA - MOS</a:t>
            </a:r>
            <a:endParaRPr b="1" lang="en-US" sz="40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untry-wide reporting similar to MOSS for security (currently under consideration)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ach agency reports to RC/HC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nnual reporting to General Assembly as part of the Special Measures Repor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ased on the 4 pilla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eed to have clear, measurable indicato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CHA/ECPS Task Force will seek system-wide endorsem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0:18:47Z</dcterms:created>
  <dc:creator>Jeanne Ward</dc:creator>
  <dc:description/>
  <dc:language>en-US</dc:language>
  <cp:lastModifiedBy>jaqueline.carleson</cp:lastModifiedBy>
  <dcterms:modified xsi:type="dcterms:W3CDTF">2009-08-31T17:12:56Z</dcterms:modified>
  <cp:revision>33</cp:revision>
  <dc:subject/>
  <dc:title>Focal Points Training on Protection From Sexual Exploitation and Abuse</dc:title>
</cp:coreProperties>
</file>