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3A1-8C0E-4078-B6EC-7D3080FC1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0CA9-1C8E-4AFF-AD05-568820E99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3B3-6344-43E8-B4AD-C8D5407A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478C-C064-4AAF-96B8-668B73B7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417-EA1F-4F1E-89D5-426B874B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060E-1185-4607-BD05-C98DE51B9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A099-9850-47B0-9F08-91B841E3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81C6-761F-4338-9CBA-44D7AC3EB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F12-0940-4BF6-BCBD-EC36D0E0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A762-2577-437F-A5AC-5A9256437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D17C-552C-4667-A4FD-CB255D1DB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CB54-F157-4341-8185-4202B6F7A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5468-C6E4-4529-A2D0-CC6F6D80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1BF6-B2D1-482D-8F2D-E6046F0A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6D4-B592-440E-97EE-752DBBA14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265E-1485-4A7B-9FF4-92346CAA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C54-76FF-45C2-A664-B9FD5EC7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41B-7F82-4DAD-A202-F31FC7DD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6CE-80FB-4C8E-B658-E1B3F4AF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8B0-8315-442F-814F-034A8F8E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3CFE-97F3-497E-9D22-56CC9939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475B-7DF6-46F9-ACD9-81650A00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19C-CBA1-4F55-92C3-6EE840F6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C2B-7798-44E9-9681-0072432D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1782-ACA3-45E0-8C8D-8921980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F746-3D27-4C24-B491-6DE4348B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864-751D-4365-AD92-58493AE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32D-BA7E-480C-AB3B-AAB403CC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28E-5BC2-4191-B88C-4D00F41F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BB9-7864-4C91-A4A0-2F7D961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01B-F78A-40A0-8C94-619B0304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901-72B7-42DE-909B-0A0A18A3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E85A-563A-4F23-8AF4-A98F872B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027-2E80-4861-A058-B773E734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B45-6B5A-4993-A96F-D9F769E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698-0069-4724-B8C6-A818EE2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BFF-455F-4C6E-B367-0EF856F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0E5-E6C0-45B7-9CE6-C6EE7C71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08D-7C56-4BA2-BD99-5A051FC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4F3-6C71-4068-9DD4-AB61127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0127-94C5-42ED-8AC2-BB850DC5A3E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5389-54B3-48C1-80FC-8AD5BB3C5EC8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s </a:t>
            </a:r>
            <a:r>
              <a:rPr b="1" lang="en-GB" sz="4400" spc="-1" strike="noStrike">
                <a:solidFill>
                  <a:srgbClr val="1822cd"/>
                </a:solidFill>
                <a:latin typeface="Lucida Grande"/>
              </a:rPr>
              <a:t>Training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 on Protection from Sexual Exploitation and Abu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dule 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Secretary General’s Bulletin:  Definitions and Standards of Con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9C1-16E5-46A0-8C11-273DB67719E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Key Messa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l staff and related personnel should not only PROMOTE but also RESPECT human rights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xual abuse and exploitation is a form of gender-based violence that has serious consequenc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G’s Bulletin is not designed to place restrictions on lives of staff and related personnel, but to protect vulnerable groups from harm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BCF-269E-42C3-BE8B-A528E4BFED4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Key Messag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xual activities with children are prohibit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change of money, employment, goods or services for sex is prohibit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isuse of a position of authority for sexual and other favours is prohibited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taff and related personnel have an obligation to report all suspicions or concerns related to sexual abuse and exploitation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7223-AC6F-4D13-BAAE-EEFF4D78938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Adding to the SGB…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U relating to Peacekeeping Opera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administrative procedur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.e. Contracts of Pol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 and NGO Statement of Commitm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SO (NGO) Guidelin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 victim assistance strate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1624-1337-413A-97E4-CE82725A1E9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st Your Knowled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ccording to the core principles, all staff and related personnel are prohibited from having sex with people who are under the age of 18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UE OR FAL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RUE:  sexual activity with children (under the age of 18) is prohibited regardless of the age of consent locally.  This applies to international staff, local staff, consultants, etc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A62F-6D30-4B96-AC51-57A84775BB1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st Your Knowled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aff and related personnel are forbidden to have sexual relationships with beneficiaries under all circumstance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UE or FAL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ALSE: According to the core principles, sexual relationships between staff and related personnel and beneficiaries are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strongly discourage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because such relationships are based on inherently unequal power dynamics.  Only when such relationships constitute sexual exploitation or abuse are they forbidde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60C-5197-4948-9689-7E48AB81108B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st Your Knowled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f you suspect that a staff member is violating the core principles, you must (check all that appl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.  Tell him/her to stop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 Investigat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.  Report (i.e to the Head of Office or HR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e answer is “C”, and this applies regardless of whether you are in the same agency.  You must report suspicion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G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D06-4D61-4182-8B5A-6901BBB3224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est Your Knowledg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core principles only apply to behaviour that takes place during working hour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RUE or FALSE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ALSE:  The principles apply all the time.  There is a </a:t>
            </a:r>
            <a:r>
              <a:rPr b="0" lang="en-GB" sz="3200" spc="-1" strike="noStrike">
                <a:solidFill>
                  <a:srgbClr val="000000"/>
                </a:solidFill>
                <a:latin typeface="Lucida Grande"/>
              </a:rPr>
              <a:t>responsibi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that comes with the position that extends beyond working hour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C8A9-E6CB-4453-8359-78C3D6002A9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2120" y="533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1822cd"/>
                </a:solidFill>
                <a:latin typeface="Lucida Grande"/>
              </a:rPr>
              <a:t>The Secretary-General’s Bulle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1981080"/>
            <a:ext cx="78487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The SGB states that sexual exploitation and abuse “have always been unacceptable behaviour and prohibited conduct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It establishes specific standards “[i]n order to further protect the most vulnerable populations, especially women and childre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2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285F-1ACC-4FC0-8231-2C1E1D3BBB51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868680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1822cd"/>
                </a:solidFill>
                <a:latin typeface="Lucida Grande"/>
              </a:rPr>
              <a:t>The Secretary-General’s Bulleti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2209680"/>
            <a:ext cx="78487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The 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3d1f0"/>
                </a:solidFill>
                <a:latin typeface="Lucida Grande"/>
                <a:ea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“</a:t>
            </a:r>
            <a:r>
              <a:rPr b="1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sexual exploitation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” means any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actual or attempted </a:t>
            </a:r>
            <a:r>
              <a:rPr b="0" lang="en-AU" sz="2800" spc="-1" strike="noStrike">
                <a:solidFill>
                  <a:srgbClr val="ff9218"/>
                </a:solidFill>
                <a:latin typeface="Lucida Grande"/>
                <a:ea typeface="Arial"/>
              </a:rPr>
              <a:t>abuse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 of a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position of vulnerability, differential power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, or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trust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, for sexual purposes, including but not limited to,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profiting monetarily, socially or politically 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from the sexual exploitation of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r>
              <a:rPr b="0" lang="en-AU" sz="2400" spc="-1" strike="noStrike">
                <a:solidFill>
                  <a:srgbClr val="b3d1f0"/>
                </a:solidFill>
                <a:latin typeface="Tahom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2AD-1346-44A1-8695-61A9813093B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858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0"/>
            <a:ext cx="838188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1822cd"/>
                </a:solidFill>
                <a:latin typeface="Lucida Grande"/>
              </a:rPr>
              <a:t>The Secretary-General’s Bulleti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286000"/>
            <a:ext cx="7924680" cy="35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The defin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“</a:t>
            </a:r>
            <a:r>
              <a:rPr b="1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sexual abuse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” means the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actual or threatened 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physical intrusion of a sexual nature, whether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by force 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or under </a:t>
            </a:r>
            <a:r>
              <a:rPr b="0" lang="en-AU" sz="2800" spc="-1" strike="noStrike">
                <a:solidFill>
                  <a:srgbClr val="ff9900"/>
                </a:solidFill>
                <a:latin typeface="Lucida Grande"/>
                <a:ea typeface="Arial"/>
              </a:rPr>
              <a:t>unequal or coercive conditions</a:t>
            </a:r>
            <a:r>
              <a:rPr b="0" lang="en-AU" sz="2800" spc="-1" strike="noStrike">
                <a:solidFill>
                  <a:srgbClr val="000000"/>
                </a:solidFill>
                <a:latin typeface="Lucida Grand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8D31-C468-436C-A626-F0DAAA6A20E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x Princip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xual exploitation and sexual abuse constitute acts of serious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 misconduc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and are therefore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grounds for disciplinary measures, including summary dismissal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xual activity with children (persons under the age of 18) is prohibited regardless of the age of majority or age of consent locally.  </a:t>
            </a: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Mistaken belief in the age of the child is not a defenc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2C1F-C61A-4033-B342-A30D9CE3F9B9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x Princip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3. Exchange of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money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employment,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goods or services for sex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including sexual favours or other forms of humiliating, degrading or exploitative behaviour,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is prohibited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.  This includes any exchange of assistance that is due to beneficiarie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4. Sexual relationships between staff and beneficiaries of assistance, since they are based on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inherently unequal power dynamic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, undermine the credibility and integrity of the work of the United Nations and are strongly discouraged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F1FD-E571-4362-9C79-7D76BBE7BD90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ix Princip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5. Where staff or related personnel develops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concerns or suspicion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regarding sexual exploitation or sexual abuse by a fellow worker, whether in the same agency or not and whether or not within the United Nations system,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he/she must report such concern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via established agency reporting mechanism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6.  Staff and related personnel are obliged to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create and maintain an environment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that prevents sexual exploitation and abuse.  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Managers at all level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have a particular responsibility to support and develop systems that maintain this environme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C8A9-7E68-4480-B1F1-B1F468540C8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0880" y="0"/>
            <a:ext cx="838224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1822cd"/>
                </a:solidFill>
                <a:latin typeface="Lucida Grande"/>
              </a:rPr>
              <a:t>The Secretary-General’s Bulleti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905120"/>
            <a:ext cx="8229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The SGB applie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5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all UN staff (including agencies, funds, program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5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all uniformed personnel (including civilian police and military observers)</a:t>
            </a:r>
            <a:r>
              <a:rPr b="0" lang="en-AU" sz="2400" spc="-1" strike="noStrike">
                <a:solidFill>
                  <a:srgbClr val="b3d1f0"/>
                </a:solidFill>
                <a:latin typeface="Lucida Grand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5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Arial"/>
              </a:rPr>
              <a:t>all partners who enter into a contract with the UN (including NGOs, consultants, contractors, day labourers, interns, JPOs, UNVs, etc.)</a:t>
            </a:r>
            <a:r>
              <a:rPr b="0" lang="en-AU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00000"/>
              </a:lnSpc>
              <a:spcBef>
                <a:spcPts val="1500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Lucida Grande"/>
                <a:ea typeface="Times New Roman"/>
              </a:rPr>
              <a:t>Some NGOs and IGOs also use the SGB!  Many use the Six Core Princi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:  SG's Bulle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B01-4320-4516-B86B-53B2F7431F8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“</a:t>
            </a: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ey Areas”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Strongly discouraged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Not exhaustive!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10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Grande"/>
              </a:rPr>
              <a:t>Sexual harassment vs. SEA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3:12:28Z</dcterms:created>
  <dc:creator>Me</dc:creator>
  <dc:description/>
  <dc:language>en-US</dc:language>
  <cp:lastModifiedBy>jaqueline.carleson</cp:lastModifiedBy>
  <dcterms:modified xsi:type="dcterms:W3CDTF">2009-08-31T14:54:03Z</dcterms:modified>
  <cp:revision>98</cp:revision>
  <dc:subject/>
  <dc:title>PowerPoint Presentation</dc:title>
</cp:coreProperties>
</file>