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728280"/>
            <a:ext cx="522144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ertificate of Participatio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640" y="1881360"/>
            <a:ext cx="5004000" cy="16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s hereby granted to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[name here]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27"/>
          <p:cNvSpPr/>
          <p:nvPr/>
        </p:nvSpPr>
        <p:spPr>
          <a:xfrm>
            <a:off x="297180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460600" indent="-2301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2843280" y="3429000"/>
            <a:ext cx="5543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Inter-Agency Workshop for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Focal Points on Protection from Sexual Exploitation and Abuse by UN, NGO and IGO Personnel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Arial Narrow"/>
              </a:rPr>
              <a:t>{Place and Date her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6"/>
          <p:cNvSpPr/>
          <p:nvPr/>
        </p:nvSpPr>
        <p:spPr>
          <a:xfrm>
            <a:off x="3672000" y="5337000"/>
            <a:ext cx="46450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CHA/ECPS UN and NGO Task Force on Protection from Sexual Exploitation and Abu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2" descr=""/>
          <p:cNvPicPr/>
          <p:nvPr/>
        </p:nvPicPr>
        <p:blipFill>
          <a:blip r:embed="rId1"/>
          <a:stretch/>
        </p:blipFill>
        <p:spPr>
          <a:xfrm>
            <a:off x="6372360" y="1015920"/>
            <a:ext cx="1701720" cy="230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3" descr=""/>
          <p:cNvPicPr/>
          <p:nvPr/>
        </p:nvPicPr>
        <p:blipFill>
          <a:blip r:embed="rId2"/>
          <a:stretch/>
        </p:blipFill>
        <p:spPr>
          <a:xfrm>
            <a:off x="1008000" y="3933720"/>
            <a:ext cx="1571760" cy="2195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aqueline.carleson</cp:lastModifiedBy>
  <cp:lastPrinted>2009-04-22T19:24:48Z</cp:lastPrinted>
  <dcterms:modified xsi:type="dcterms:W3CDTF">2009-08-31T16:23:5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