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D3BA-7273-4277-89EE-74BAFDE0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FB0-C78A-48BE-B96E-331A358B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5868-5522-4A3F-A3E7-A908D939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6B0B-F115-4BDF-8422-2296C11BD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5BDA-0EB9-4FEA-B441-196166CC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4CE-4C39-4797-84BD-F312820C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9C7-7387-4243-B49A-83D3084C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B7B-B277-4D9B-8345-E728E919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AD8-56F6-43E5-AD62-B341AC4E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092D-1C18-45CB-A90F-664EC364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E7AE-7942-473A-86EB-D9ACF5D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1864-AFE5-43C5-A3E3-21715BF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F694-2E5C-4858-BA00-F0BC595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88F-2A29-4D08-9E92-77BBD042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0216-A71B-4872-BDD0-0F109F1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F469-79AE-45EC-BCA8-8D03FA5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4D0-2565-4D29-A2BF-DC5BED67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86D6-47D3-4AEA-82D3-5B593FC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4D6-1596-4466-83E7-4EE67CF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F703-A496-4DEF-8107-761B19FB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96E2-07EC-4B6B-8A3E-40D05AE2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8E4D-3A3B-46E1-8868-AED5D233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9D6-D495-45C8-AB59-D9F0111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218-47DB-4108-B114-4DFAEF1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2F3-FA93-4F44-AB42-3C1550A5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84B-49FB-485B-B86D-0AFE651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0D5-80EF-4132-9BE5-BB44BB3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021-17D0-4E0B-AD77-8BD2AEA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BE3-21CB-422A-9870-90A5273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E1C-65F4-45CC-93E4-EBBB7F0B39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Responsibilities of FP and ICN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FC28-141D-477D-A2A1-92DED59E71D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DCD4-5CEF-4C76-872C-C4BA4E21AA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Responsibilities of FP and ICN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DB0-F793-40C1-B6BC-D93C70DFEF9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cal Points Training on Protection from Sexual Exploitation and Abu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dule 5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ponsibilities of the Focal Point and the Network within the Four Pilla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ECE5-EF3F-4365-BA05-F7FF8BE8555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ngagement with and Support of Local Populations: IC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Establish common complaints mechanisms in each community where the UN, NGOs and IGOs work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Facilitate awareness raising in local communities on rights, standards of conduct and making a complaint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37AA-EB2E-4144-9913-871798FD1484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evention: IC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nsure country-wide awareness raising for staff and related personnel (whether collectively or by agency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dentify risk fact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hare information about potential risk factors and areas of concer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e to establishment and implementation of good hiring pract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F00-0D35-4059-8EFB-DE50183AB94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sponse:  IC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 mechanisms for receiving complaints implicating other/multiple/unknown entiti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armonize personnel reporting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ress “in the air” allegations and rumors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e confidential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stablish and coordinate victim assistance mechanism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560-885C-4D57-9A1B-82CBD4E42A2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anagement and Coordination:  IC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old regular meet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are coordination responsibiliti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sess gaps in protection and develop action pla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ordinate training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hare best practic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pport adherence to monitoring mechanis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port annually to ECHA/ECPS Task Force and RC/H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B77B-77A3-469D-A0E7-AA890D7AD5D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6CED-091B-4F2B-8026-AF244645783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What Focal Points and the Network are NOT Responsible for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scussing details of individual complaina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vestigating and following up on individual complai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isciplining staff who are found to have committed sexual exploitation and abus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4E1-A47B-4DFC-B5F6-6C8E72D1D1C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AAF5-F319-453D-9E06-975DF9EB0AE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ost Importantly…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network should be proactive and creative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nly the standards are non-negotiable!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532-06AD-4E21-9D7B-64C3B4F6BAA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3EC-4B71-40F1-9CE1-0C0544FBC35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onclusions for Focal Poi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Know the rul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ell people about the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port violatio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rticipate in in-country network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ork with partn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alk to your manag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aise with HQ focal poi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 vigi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 a role mod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215"/>
                </a:solidFill>
                <a:latin typeface="Lucida Grande"/>
              </a:rPr>
              <a:t>Be a champ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813-8023-4288-AB3B-77F003ACD8A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E37-F417-4181-9DEC-62870CE7F51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ools to Assist Focal Poin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DTs (where there is a peacekeeping mission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Q Focal Poi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CHA/ECPS Task Force (seatf@un.org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-country Net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ools repository (www.un.org/pseataskforce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0980-540F-422C-8BE0-8781611A92F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0555-6999-4FBF-8168-BB2CD70E781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cal Point Responsibilities within the Four Pillar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Engagement with and support of the local population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Prevention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Response;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Management and coordination.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8BC-7DE6-4E47-9738-0E7B8AD6D89D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Engagement with and Support of Local Populations: FP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Facilitate, in coordination with the in-country PSEA Network, awareness-raising in local communities on their rights, the fact that assistance to them is never to be conditioned on sexual favors and options for reporting incidents of SEA.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5593-6435-4BD7-A0F0-6F45B15925F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evention: F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dentify self throughout agenc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pport staff signing Code of Con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duct training and awareness-raising for staf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recommendations to senior management on improving measures to address SE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elp build policy and procedur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4E50-E978-48BA-B504-F904FB2BC2D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sponse: F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nsure development of mechanisms for staff report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ceive complaints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n-door 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nsure confidentiality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fer complaints/complainan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AD2A-F6C6-4879-898F-5DCB7F26962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anagement and Coordination: FP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sist HoO/RR to fulfill responsibili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upport inclusion of SGB standards in contractual arrangements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e to designation and training of field focal poi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ordinate organization’s adherence to monitoring/compliance mechanis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sure FP responsibilities in job description/ToR and/or performance appraisal plan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ck all PSEA-related activi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Keep management up to date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940-4A99-4A11-8D6C-0759468F8AB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E850-35A6-47EE-92AD-48C561757B3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For all these responsibilities, working with senior management is key!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nior management have the main responsibility under the SGB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cal points assist senior management to meet their responsibilit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cal points should assist senior management in identifying ongoing needs for addressing SE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cal points should meet regularly with senior managem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4DB6-5E37-4893-A697-76357C26AB2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6719-2E0C-4D53-BA30-09C8857F3E2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rticipating in the In-country Networ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focal point networ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s made up of representatives of all UN agencies with a presence in country, any peacekeeping mission, the Red Cross/Red Crescent Movement and key NGO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unctions under the auspices of the Resident Coordinato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2D04-CF2A-498E-AEAA-96581749BAC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5:  Responsibilities of FP and IC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AC3F-28FB-47AC-9A64-2BA6DAEAC334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urpose of the Networ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network is the primary body for coordination and oversight on protection from sexual exploitation and abuse by staff and related personnel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215"/>
                </a:solidFill>
                <a:latin typeface="Lucida Grande"/>
              </a:rPr>
              <a:t>The work cannot be done in isolation!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network ensures common messages, collective action, concerted response and coordination rather than duplication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8:56:55Z</dcterms:created>
  <dc:creator>pshifman</dc:creator>
  <dc:description/>
  <dc:language>en-US</dc:language>
  <cp:lastModifiedBy>jaqueline.carleson</cp:lastModifiedBy>
  <dcterms:modified xsi:type="dcterms:W3CDTF">2010-01-15T21:29:36Z</dcterms:modified>
  <cp:revision>53</cp:revision>
  <dc:subject/>
  <dc:title>Focal Point terms of reference:</dc:title>
</cp:coreProperties>
</file>